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wmf" ContentType="image/x-wmf"/>
  <Override PartName="/ppt/media/image13.png" ContentType="image/png"/>
  <Override PartName="/ppt/media/image12.png" ContentType="image/png"/>
  <Override PartName="/ppt/media/image7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F891-BBB2-4072-AE5D-8B97F018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9CE7-332E-4979-BE0B-CC321648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5D9A-FF8D-4D53-B727-4095F47E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993C-F0FC-4B17-9FF9-666E7399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F154-394F-4065-B6C3-66FC297F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9646-B4EE-4B08-812D-86881504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2C08-4BEB-46E3-BCE7-8567B043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7EE1-E9B7-4765-86A5-ED25F3DF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A30F-C8C6-4D24-A8FD-89B138C2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42B9-D8A4-4DD4-8BB6-68037878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08DA-6AF2-4A62-A93F-90DE3054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A87D-79BB-4D7A-9502-E4C357C0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AC5D-F92D-467E-BDCC-DBEF4961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A4B5-28DC-413E-BE17-695B555D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1734-8294-405F-8F51-AC583543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62E9-2633-4C7A-8A88-79DC5588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CA20-20B5-4093-9C4F-4B246E77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E2EC-9FAE-4619-8277-5E009A26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E168-C43C-4765-8861-D22618AE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B42F-F10B-4757-ADF7-53428C28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9022-A3DE-43F0-993F-F4F4A260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EF35-5CA4-44AC-89E9-C36E0C7D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214A-8103-43ED-87F4-FB1EDB76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AA54-2783-401A-BB35-5BF605B1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EA10-C60F-49CD-AA7A-E17D70C2E361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D5C1-460C-43C7-AAE3-CBC585238C7B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hitewolf.newcastle.edu.au/techinfo/med_bacto.html#tryptonebroth" TargetMode="External"/><Relationship Id="rId2" Type="http://schemas.openxmlformats.org/officeDocument/2006/relationships/hyperlink" Target="http://whitewolf.newcastle.edu.au/techinfo/bio_reagent.html#kovac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hitewolf.newcastle.edu.au/techinfo/med_bacto.html#buffgluc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3300"/>
                </a:solidFill>
                <a:latin typeface="Arial"/>
              </a:rPr>
              <a:t>Enterobacteriacea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iochemical Rea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Citrate Utilization T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3120" y="4652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>
              <a:lnSpc>
                <a:spcPct val="14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ubate at 37°C for 24 hou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79280" y="1731960"/>
            <a:ext cx="22989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ho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323640" y="2827440"/>
            <a:ext cx="8538480" cy="20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ak 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immon's Citrate ag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lant wi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ganis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itrate Utilization T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476244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 for growth (+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on the medium is accompanied by a rise in pH to change the medium from its initial green color to deep b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4" descr="cita"/>
          <p:cNvPicPr/>
          <p:nvPr/>
        </p:nvPicPr>
        <p:blipFill>
          <a:blip r:embed="rId1"/>
          <a:stretch/>
        </p:blipFill>
        <p:spPr>
          <a:xfrm>
            <a:off x="5808600" y="1700280"/>
            <a:ext cx="3335400" cy="35733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5"/>
          <p:cNvSpPr/>
          <p:nvPr/>
        </p:nvSpPr>
        <p:spPr>
          <a:xfrm>
            <a:off x="534240" y="1058760"/>
            <a:ext cx="195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u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6"/>
          <p:cNvSpPr/>
          <p:nvPr/>
        </p:nvSpPr>
        <p:spPr>
          <a:xfrm flipH="1">
            <a:off x="5579640" y="5084640"/>
            <a:ext cx="1297080" cy="865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2598120" y="5943600"/>
            <a:ext cx="307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Klebsiella, Enterobac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8317080" y="4869000"/>
            <a:ext cx="0" cy="1224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7650000" y="6021360"/>
            <a:ext cx="12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g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E. co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" dur="2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002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Urease T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0755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ea agar contains urea and phenol 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ease is an enzyme that catalyzes the conversion of urea to CO2 and NH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monia combines with water to produce ammonium hydroxide, a strong base which ↑ pH of the mediu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↑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pH causes phenol red r to turn a deep pink. This is indicative of a positive reaction for ur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97080" y="3933720"/>
            <a:ext cx="8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Ure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1187280" y="4221000"/>
            <a:ext cx="1152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170360" y="3789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U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2290680" y="4010040"/>
            <a:ext cx="163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CO2 + NH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3924360" y="4221000"/>
            <a:ext cx="10792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3996360" y="3753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H2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4934880" y="39798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H4 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6229440" y="4221000"/>
            <a:ext cx="8636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7092360" y="40053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↑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 p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4" name="AutoShape 18"/>
          <p:cNvCxnSpPr>
            <a:stCxn id="273" idx="3"/>
          </p:cNvCxnSpPr>
          <p:nvPr/>
        </p:nvCxnSpPr>
        <p:spPr>
          <a:xfrm>
            <a:off x="8080200" y="4203360"/>
            <a:ext cx="401040" cy="1043640"/>
          </a:xfrm>
          <a:prstGeom prst="bentConnector2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275" name="Text Box 19"/>
          <p:cNvSpPr/>
          <p:nvPr/>
        </p:nvSpPr>
        <p:spPr>
          <a:xfrm>
            <a:off x="6519600" y="458136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Phenol 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20"/>
          <p:cNvSpPr/>
          <p:nvPr/>
        </p:nvSpPr>
        <p:spPr>
          <a:xfrm>
            <a:off x="7450560" y="5157720"/>
            <a:ext cx="168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i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ositive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42"/>
          <p:cNvSpPr/>
          <p:nvPr/>
        </p:nvSpPr>
        <p:spPr>
          <a:xfrm>
            <a:off x="678600" y="5597640"/>
            <a:ext cx="565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eak a urea agar tube with the organis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ubate at 37°C for 24 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43"/>
          <p:cNvSpPr/>
          <p:nvPr/>
        </p:nvSpPr>
        <p:spPr>
          <a:xfrm>
            <a:off x="319320" y="5013360"/>
            <a:ext cx="19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44"/>
          <p:cNvSpPr/>
          <p:nvPr/>
        </p:nvSpPr>
        <p:spPr>
          <a:xfrm>
            <a:off x="248760" y="404640"/>
            <a:ext cx="2231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in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Urease T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540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color of medium turns from yellow to pink indicates positive tes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te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ive positive reaction after 4 h whil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Kelebsiell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nterobac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ave positive results after 24 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75680" y="85104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u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7" descr="PHOTO63"/>
          <p:cNvPicPr/>
          <p:nvPr/>
        </p:nvPicPr>
        <p:blipFill>
          <a:blip r:embed="rId3"/>
          <a:stretch/>
        </p:blipFill>
        <p:spPr>
          <a:xfrm>
            <a:off x="6305400" y="1700280"/>
            <a:ext cx="2011680" cy="2743200"/>
          </a:xfrm>
          <a:prstGeom prst="rect">
            <a:avLst/>
          </a:prstGeom>
          <a:ln w="0">
            <a:noFill/>
          </a:ln>
        </p:spPr>
      </p:pic>
      <p:sp>
        <p:nvSpPr>
          <p:cNvPr id="284" name="Line 8"/>
          <p:cNvSpPr/>
          <p:nvPr/>
        </p:nvSpPr>
        <p:spPr>
          <a:xfrm flipH="1">
            <a:off x="6011640" y="4292640"/>
            <a:ext cx="647640" cy="1584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5131080" y="58770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ositive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10"/>
          <p:cNvSpPr/>
          <p:nvPr/>
        </p:nvSpPr>
        <p:spPr>
          <a:xfrm>
            <a:off x="7956720" y="4508640"/>
            <a:ext cx="287280" cy="1368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1"/>
          <p:cNvSpPr/>
          <p:nvPr/>
        </p:nvSpPr>
        <p:spPr>
          <a:xfrm>
            <a:off x="7144920" y="587052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gative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Reaction on Triple Sugar Iron (TSI) Ag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SI cont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e different types of sug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ucose (1 par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ctose (10 par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2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rose (10 par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enol red (acidic: Yel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SI dispensed in tubes with equal butt &amp; s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cip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determine the ability of an organism to attack a specific carbohydrate incorporated into a basal growth medium, with or without the production of gas, along with the determination of possible hydrogen sulphide produ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7"/>
          <a:stretch/>
        </p:blipFill>
        <p:spPr>
          <a:xfrm>
            <a:off x="8244000" y="2206800"/>
            <a:ext cx="647640" cy="25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ction on TS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ho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oculate TSI medium with an organism by inoculating needle by stabbing the butt and streaking the s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ubate at 37°C for 24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108000" y="938160"/>
          <a:ext cx="6697440" cy="5684760"/>
        </p:xfrm>
        <a:graphic>
          <a:graphicData uri="http://schemas.openxmlformats.org/drawingml/2006/table">
            <a:tbl>
              <a:tblPr/>
              <a:tblGrid>
                <a:gridCol w="850680"/>
                <a:gridCol w="1020960"/>
                <a:gridCol w="1023840"/>
                <a:gridCol w="2098800"/>
                <a:gridCol w="1703160"/>
              </a:tblGrid>
              <a:tr h="420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Reaction on T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Resul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73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Butt col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Slant col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H</a:t>
                      </a:r>
                      <a:r>
                        <a:rPr b="1" lang="en-US" sz="1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lk/Alk/-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(No action on suga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Non fermenter e.g.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Pseudomon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5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Yel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/Alk/-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Glucose fermented without  H</a:t>
                      </a:r>
                      <a:r>
                        <a:rPr b="0" lang="en-US" sz="1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LNF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e.g.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Shigel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Yel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black in but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/Alk/+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Glucose fermented with H</a:t>
                      </a:r>
                      <a:r>
                        <a:rPr b="0" lang="en-US" sz="1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LNF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e.g.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Salmonell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&amp;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Prote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Yel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Yel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/A/-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(three sugars are fermente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LF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e.g.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E. coli, Klebsiella, Enterobac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294" name="Text Box 43"/>
          <p:cNvSpPr/>
          <p:nvPr/>
        </p:nvSpPr>
        <p:spPr>
          <a:xfrm>
            <a:off x="3659040" y="44280"/>
            <a:ext cx="16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Res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45" descr=""/>
          <p:cNvPicPr/>
          <p:nvPr/>
        </p:nvPicPr>
        <p:blipFill>
          <a:blip r:embed="rId1"/>
          <a:stretch/>
        </p:blipFill>
        <p:spPr>
          <a:xfrm>
            <a:off x="6877080" y="1270080"/>
            <a:ext cx="22669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0" y="1052640"/>
          <a:ext cx="9144000" cy="5616360"/>
        </p:xfrm>
        <a:graphic>
          <a:graphicData uri="http://schemas.openxmlformats.org/drawingml/2006/table">
            <a:tbl>
              <a:tblPr/>
              <a:tblGrid>
                <a:gridCol w="1547640"/>
                <a:gridCol w="1079640"/>
                <a:gridCol w="1081080"/>
                <a:gridCol w="1295280"/>
                <a:gridCol w="1008360"/>
                <a:gridCol w="1081080"/>
                <a:gridCol w="792000"/>
                <a:gridCol w="1258920"/>
              </a:tblGrid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Gram sta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Oxida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itrate reducta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O/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acConke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M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. co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 r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+/F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llic she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itrobac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 ro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+/F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Klebsiel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 ro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+/F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nterobac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 ro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+/F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almonel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 ro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+/F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LF/H2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orl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higel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 ro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+/F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orl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rote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 ro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+/F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LF/H2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orl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Text Box 151"/>
          <p:cNvSpPr/>
          <p:nvPr/>
        </p:nvSpPr>
        <p:spPr>
          <a:xfrm>
            <a:off x="765720" y="158760"/>
            <a:ext cx="755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mmary of  morphology, cultural characteristic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biochemical reactions of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Enterobacteriace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0" y="1052640"/>
          <a:ext cx="9144000" cy="5619600"/>
        </p:xfrm>
        <a:graphic>
          <a:graphicData uri="http://schemas.openxmlformats.org/drawingml/2006/table">
            <a:tbl>
              <a:tblPr/>
              <a:tblGrid>
                <a:gridCol w="1692360"/>
                <a:gridCol w="934920"/>
                <a:gridCol w="1081080"/>
                <a:gridCol w="1295280"/>
                <a:gridCol w="792360"/>
                <a:gridCol w="1008000"/>
                <a:gridCol w="1081080"/>
                <a:gridCol w="1258920"/>
              </a:tblGrid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TS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do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Cit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Urea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oti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. col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/A/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ti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Citrobacter freund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/A/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ti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Klebsiella pneumoni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/A/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on moti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nterobacter cloac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/A/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oti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almonella typh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/Alk/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oti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higella boyd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/Alk/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on moti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roteus</a:t>
                      </a:r>
                      <a:r>
                        <a:rPr b="1" i="1" lang="ar-SA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mirabil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/Alk/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+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i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arw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Text Box 86"/>
          <p:cNvSpPr/>
          <p:nvPr/>
        </p:nvSpPr>
        <p:spPr>
          <a:xfrm>
            <a:off x="765720" y="44280"/>
            <a:ext cx="755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mmary of  morphology, cultural characteristic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biochemical reactions of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Enterobacteriace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924360" y="333360"/>
            <a:ext cx="2879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xidase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6737400" y="90180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Posi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2118960" y="9018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eg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2627280" y="126828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6447600" y="1484280"/>
            <a:ext cx="17809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c0000"/>
                </a:solidFill>
                <a:latin typeface="Tahoma"/>
              </a:rPr>
              <a:t>Pseudomo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7"/>
          <p:cNvSpPr/>
          <p:nvPr/>
        </p:nvSpPr>
        <p:spPr>
          <a:xfrm>
            <a:off x="7308720" y="1195560"/>
            <a:ext cx="0" cy="215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1308960" y="1413000"/>
            <a:ext cx="247428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c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bc0000"/>
                </a:solidFill>
                <a:latin typeface="Tahoma"/>
              </a:rPr>
              <a:t>Enterobacteriacea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Group 10"/>
          <p:cNvGrpSpPr/>
          <p:nvPr/>
        </p:nvGrpSpPr>
        <p:grpSpPr>
          <a:xfrm>
            <a:off x="2624400" y="691920"/>
            <a:ext cx="4614480" cy="216000"/>
            <a:chOff x="2624400" y="691920"/>
            <a:chExt cx="4614480" cy="216000"/>
          </a:xfrm>
        </p:grpSpPr>
        <p:sp>
          <p:nvSpPr>
            <p:cNvPr id="308" name="Line 11"/>
            <p:cNvSpPr/>
            <p:nvPr/>
          </p:nvSpPr>
          <p:spPr>
            <a:xfrm>
              <a:off x="2625120" y="784800"/>
              <a:ext cx="4611240" cy="33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2"/>
            <p:cNvSpPr/>
            <p:nvPr/>
          </p:nvSpPr>
          <p:spPr>
            <a:xfrm flipH="1">
              <a:off x="7233120" y="802440"/>
              <a:ext cx="5760" cy="105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3"/>
            <p:cNvSpPr/>
            <p:nvPr/>
          </p:nvSpPr>
          <p:spPr>
            <a:xfrm flipH="1">
              <a:off x="2624400" y="802440"/>
              <a:ext cx="5760" cy="105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4"/>
            <p:cNvSpPr/>
            <p:nvPr/>
          </p:nvSpPr>
          <p:spPr>
            <a:xfrm flipV="1">
              <a:off x="4899960" y="691920"/>
              <a:ext cx="5760" cy="105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WordArt 15"/>
          <p:cNvSpPr txBox="1"/>
          <p:nvPr/>
        </p:nvSpPr>
        <p:spPr>
          <a:xfrm>
            <a:off x="108000" y="0"/>
            <a:ext cx="453528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dentification of Gram's -ve rods</a:t>
            </a:r>
            <a:endParaRPr b="0" lang="en-US" sz="18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5851800" y="2401920"/>
            <a:ext cx="31629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Nitrate test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+ve furth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duction to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5779440" y="3068640"/>
            <a:ext cx="3636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rowth on cetrimide agar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le colonies with gre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ig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18"/>
          <p:cNvSpPr/>
          <p:nvPr/>
        </p:nvSpPr>
        <p:spPr>
          <a:xfrm>
            <a:off x="7308720" y="177948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19"/>
          <p:cNvSpPr/>
          <p:nvPr/>
        </p:nvSpPr>
        <p:spPr>
          <a:xfrm>
            <a:off x="2627280" y="1773360"/>
            <a:ext cx="0" cy="215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1556640" y="191628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MacConkey’s ag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&amp; T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21"/>
          <p:cNvGrpSpPr/>
          <p:nvPr/>
        </p:nvGrpSpPr>
        <p:grpSpPr>
          <a:xfrm>
            <a:off x="971640" y="2492280"/>
            <a:ext cx="3600360" cy="289080"/>
            <a:chOff x="971640" y="2492280"/>
            <a:chExt cx="3600360" cy="289080"/>
          </a:xfrm>
        </p:grpSpPr>
        <p:sp>
          <p:nvSpPr>
            <p:cNvPr id="319" name="Line 22"/>
            <p:cNvSpPr/>
            <p:nvPr/>
          </p:nvSpPr>
          <p:spPr>
            <a:xfrm>
              <a:off x="971640" y="2637000"/>
              <a:ext cx="3600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3"/>
            <p:cNvSpPr/>
            <p:nvPr/>
          </p:nvSpPr>
          <p:spPr>
            <a:xfrm>
              <a:off x="4572000" y="2637000"/>
              <a:ext cx="0" cy="14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4"/>
            <p:cNvSpPr/>
            <p:nvPr/>
          </p:nvSpPr>
          <p:spPr>
            <a:xfrm>
              <a:off x="971640" y="2637000"/>
              <a:ext cx="0" cy="14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5"/>
            <p:cNvSpPr/>
            <p:nvPr/>
          </p:nvSpPr>
          <p:spPr>
            <a:xfrm flipV="1">
              <a:off x="2627280" y="2492280"/>
              <a:ext cx="0" cy="14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Text Box 26"/>
          <p:cNvSpPr/>
          <p:nvPr/>
        </p:nvSpPr>
        <p:spPr>
          <a:xfrm>
            <a:off x="-3960" y="3332160"/>
            <a:ext cx="25293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Lactose ferm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7"/>
          <p:cNvSpPr/>
          <p:nvPr/>
        </p:nvSpPr>
        <p:spPr>
          <a:xfrm>
            <a:off x="-63720" y="2708280"/>
            <a:ext cx="294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Pink colonies on MacCon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&amp; acidic butt and slant on T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28"/>
          <p:cNvSpPr/>
          <p:nvPr/>
        </p:nvSpPr>
        <p:spPr>
          <a:xfrm>
            <a:off x="2682360" y="2708280"/>
            <a:ext cx="330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colorless colonies on MacCon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&amp; acidic butt alkaline slant onT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29"/>
          <p:cNvSpPr/>
          <p:nvPr/>
        </p:nvSpPr>
        <p:spPr>
          <a:xfrm>
            <a:off x="971640" y="321300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30"/>
          <p:cNvSpPr/>
          <p:nvPr/>
        </p:nvSpPr>
        <p:spPr>
          <a:xfrm>
            <a:off x="4572000" y="321300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31"/>
          <p:cNvSpPr/>
          <p:nvPr/>
        </p:nvSpPr>
        <p:spPr>
          <a:xfrm>
            <a:off x="2846880" y="3319560"/>
            <a:ext cx="310392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Lactose non-ferm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32"/>
          <p:cNvSpPr/>
          <p:nvPr/>
        </p:nvSpPr>
        <p:spPr>
          <a:xfrm>
            <a:off x="971640" y="371628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33"/>
          <p:cNvSpPr/>
          <p:nvPr/>
        </p:nvSpPr>
        <p:spPr>
          <a:xfrm>
            <a:off x="397080" y="3860640"/>
            <a:ext cx="1244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IM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C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&amp; E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34"/>
          <p:cNvGrpSpPr/>
          <p:nvPr/>
        </p:nvGrpSpPr>
        <p:grpSpPr>
          <a:xfrm>
            <a:off x="1692360" y="5732280"/>
            <a:ext cx="2087280" cy="575640"/>
            <a:chOff x="1692360" y="5732280"/>
            <a:chExt cx="2087280" cy="575640"/>
          </a:xfrm>
        </p:grpSpPr>
        <p:sp>
          <p:nvSpPr>
            <p:cNvPr id="332" name="Line 35"/>
            <p:cNvSpPr/>
            <p:nvPr/>
          </p:nvSpPr>
          <p:spPr>
            <a:xfrm>
              <a:off x="1692360" y="6021720"/>
              <a:ext cx="2085840" cy="35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36"/>
            <p:cNvSpPr/>
            <p:nvPr/>
          </p:nvSpPr>
          <p:spPr>
            <a:xfrm>
              <a:off x="3779640" y="6088680"/>
              <a:ext cx="0" cy="219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37"/>
            <p:cNvSpPr/>
            <p:nvPr/>
          </p:nvSpPr>
          <p:spPr>
            <a:xfrm>
              <a:off x="1692360" y="6021720"/>
              <a:ext cx="0" cy="219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38"/>
            <p:cNvSpPr/>
            <p:nvPr/>
          </p:nvSpPr>
          <p:spPr>
            <a:xfrm flipV="1">
              <a:off x="2495520" y="5732280"/>
              <a:ext cx="0" cy="289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Text Box 39"/>
          <p:cNvSpPr/>
          <p:nvPr/>
        </p:nvSpPr>
        <p:spPr>
          <a:xfrm>
            <a:off x="-19080" y="4724280"/>
            <a:ext cx="171144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MV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++ - 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amp; black colonies with metalic shines on EM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Line 40"/>
          <p:cNvSpPr/>
          <p:nvPr/>
        </p:nvSpPr>
        <p:spPr>
          <a:xfrm>
            <a:off x="611280" y="6021360"/>
            <a:ext cx="0" cy="360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41"/>
          <p:cNvSpPr/>
          <p:nvPr/>
        </p:nvSpPr>
        <p:spPr>
          <a:xfrm>
            <a:off x="209880" y="6302520"/>
            <a:ext cx="8100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E.co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42"/>
          <p:cNvSpPr/>
          <p:nvPr/>
        </p:nvSpPr>
        <p:spPr>
          <a:xfrm>
            <a:off x="1547640" y="4724280"/>
            <a:ext cx="17114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MV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 - +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44"/>
          <p:cNvSpPr/>
          <p:nvPr/>
        </p:nvSpPr>
        <p:spPr>
          <a:xfrm>
            <a:off x="1079640" y="6597720"/>
            <a:ext cx="129024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Klebsie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Group 45"/>
          <p:cNvGrpSpPr/>
          <p:nvPr/>
        </p:nvGrpSpPr>
        <p:grpSpPr>
          <a:xfrm>
            <a:off x="3778200" y="3644640"/>
            <a:ext cx="2088720" cy="287640"/>
            <a:chOff x="3778200" y="3644640"/>
            <a:chExt cx="2088720" cy="287640"/>
          </a:xfrm>
        </p:grpSpPr>
        <p:sp>
          <p:nvSpPr>
            <p:cNvPr id="342" name="Line 46"/>
            <p:cNvSpPr/>
            <p:nvPr/>
          </p:nvSpPr>
          <p:spPr>
            <a:xfrm>
              <a:off x="3778200" y="3789360"/>
              <a:ext cx="2087280" cy="17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47"/>
            <p:cNvSpPr/>
            <p:nvPr/>
          </p:nvSpPr>
          <p:spPr>
            <a:xfrm>
              <a:off x="5866920" y="3822840"/>
              <a:ext cx="0" cy="109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48"/>
            <p:cNvSpPr/>
            <p:nvPr/>
          </p:nvSpPr>
          <p:spPr>
            <a:xfrm>
              <a:off x="3778200" y="3789360"/>
              <a:ext cx="0" cy="10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49"/>
            <p:cNvSpPr/>
            <p:nvPr/>
          </p:nvSpPr>
          <p:spPr>
            <a:xfrm flipV="1">
              <a:off x="4581720" y="3644640"/>
              <a:ext cx="0" cy="14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Text Box 50"/>
          <p:cNvSpPr/>
          <p:nvPr/>
        </p:nvSpPr>
        <p:spPr>
          <a:xfrm>
            <a:off x="2759400" y="3932280"/>
            <a:ext cx="19774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No H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S 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(no blacking in TS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51"/>
          <p:cNvSpPr/>
          <p:nvPr/>
        </p:nvSpPr>
        <p:spPr>
          <a:xfrm>
            <a:off x="5126400" y="3932280"/>
            <a:ext cx="16772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S 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(blacking in TS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52"/>
          <p:cNvSpPr/>
          <p:nvPr/>
        </p:nvSpPr>
        <p:spPr>
          <a:xfrm>
            <a:off x="4067280" y="4583160"/>
            <a:ext cx="0" cy="2858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3385440" y="4869000"/>
            <a:ext cx="120780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Shige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54"/>
          <p:cNvSpPr/>
          <p:nvPr/>
        </p:nvSpPr>
        <p:spPr>
          <a:xfrm>
            <a:off x="5940360" y="450684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55"/>
          <p:cNvSpPr/>
          <p:nvPr/>
        </p:nvSpPr>
        <p:spPr>
          <a:xfrm>
            <a:off x="5037840" y="4646520"/>
            <a:ext cx="195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Urease 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Group 56"/>
          <p:cNvGrpSpPr/>
          <p:nvPr/>
        </p:nvGrpSpPr>
        <p:grpSpPr>
          <a:xfrm>
            <a:off x="5219640" y="5084280"/>
            <a:ext cx="2088720" cy="287640"/>
            <a:chOff x="5219640" y="5084280"/>
            <a:chExt cx="2088720" cy="287640"/>
          </a:xfrm>
        </p:grpSpPr>
        <p:sp>
          <p:nvSpPr>
            <p:cNvPr id="353" name="Line 57"/>
            <p:cNvSpPr/>
            <p:nvPr/>
          </p:nvSpPr>
          <p:spPr>
            <a:xfrm>
              <a:off x="5219640" y="5229000"/>
              <a:ext cx="2087280" cy="17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58"/>
            <p:cNvSpPr/>
            <p:nvPr/>
          </p:nvSpPr>
          <p:spPr>
            <a:xfrm>
              <a:off x="7308360" y="5262480"/>
              <a:ext cx="0" cy="109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59"/>
            <p:cNvSpPr/>
            <p:nvPr/>
          </p:nvSpPr>
          <p:spPr>
            <a:xfrm>
              <a:off x="5219640" y="5229000"/>
              <a:ext cx="0" cy="10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60"/>
            <p:cNvSpPr/>
            <p:nvPr/>
          </p:nvSpPr>
          <p:spPr>
            <a:xfrm flipV="1">
              <a:off x="6023160" y="5084280"/>
              <a:ext cx="0" cy="14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7" name="Text Box 61"/>
          <p:cNvSpPr/>
          <p:nvPr/>
        </p:nvSpPr>
        <p:spPr>
          <a:xfrm>
            <a:off x="4946400" y="5229360"/>
            <a:ext cx="5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+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62"/>
          <p:cNvSpPr/>
          <p:nvPr/>
        </p:nvSpPr>
        <p:spPr>
          <a:xfrm>
            <a:off x="5219640" y="5734080"/>
            <a:ext cx="0" cy="503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63"/>
          <p:cNvSpPr/>
          <p:nvPr/>
        </p:nvSpPr>
        <p:spPr>
          <a:xfrm>
            <a:off x="4754160" y="6237360"/>
            <a:ext cx="10800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Prote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64"/>
          <p:cNvSpPr/>
          <p:nvPr/>
        </p:nvSpPr>
        <p:spPr>
          <a:xfrm>
            <a:off x="7021080" y="529416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65"/>
          <p:cNvSpPr/>
          <p:nvPr/>
        </p:nvSpPr>
        <p:spPr>
          <a:xfrm>
            <a:off x="7308720" y="565956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66"/>
          <p:cNvSpPr/>
          <p:nvPr/>
        </p:nvSpPr>
        <p:spPr>
          <a:xfrm>
            <a:off x="6804000" y="5726160"/>
            <a:ext cx="10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SS ag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67"/>
          <p:cNvSpPr/>
          <p:nvPr/>
        </p:nvSpPr>
        <p:spPr>
          <a:xfrm>
            <a:off x="7236000" y="609300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68"/>
          <p:cNvSpPr/>
          <p:nvPr/>
        </p:nvSpPr>
        <p:spPr>
          <a:xfrm>
            <a:off x="5999040" y="6192720"/>
            <a:ext cx="32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lorless colonies with black cen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69"/>
          <p:cNvSpPr/>
          <p:nvPr/>
        </p:nvSpPr>
        <p:spPr>
          <a:xfrm>
            <a:off x="7236000" y="645336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70"/>
          <p:cNvSpPr/>
          <p:nvPr/>
        </p:nvSpPr>
        <p:spPr>
          <a:xfrm>
            <a:off x="6551640" y="6518160"/>
            <a:ext cx="14472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Salmone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71"/>
          <p:cNvSpPr/>
          <p:nvPr/>
        </p:nvSpPr>
        <p:spPr>
          <a:xfrm>
            <a:off x="6032880" y="2211480"/>
            <a:ext cx="20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O/F test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/F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72"/>
          <p:cNvGrpSpPr/>
          <p:nvPr/>
        </p:nvGrpSpPr>
        <p:grpSpPr>
          <a:xfrm>
            <a:off x="466560" y="4652640"/>
            <a:ext cx="2089080" cy="287640"/>
            <a:chOff x="466560" y="4652640"/>
            <a:chExt cx="2089080" cy="287640"/>
          </a:xfrm>
        </p:grpSpPr>
        <p:sp>
          <p:nvSpPr>
            <p:cNvPr id="369" name="Line 73"/>
            <p:cNvSpPr/>
            <p:nvPr/>
          </p:nvSpPr>
          <p:spPr>
            <a:xfrm>
              <a:off x="466560" y="4797360"/>
              <a:ext cx="2087640" cy="17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74"/>
            <p:cNvSpPr/>
            <p:nvPr/>
          </p:nvSpPr>
          <p:spPr>
            <a:xfrm>
              <a:off x="2555640" y="4830840"/>
              <a:ext cx="0" cy="109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75"/>
            <p:cNvSpPr/>
            <p:nvPr/>
          </p:nvSpPr>
          <p:spPr>
            <a:xfrm>
              <a:off x="466560" y="4797360"/>
              <a:ext cx="0" cy="10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76"/>
            <p:cNvSpPr/>
            <p:nvPr/>
          </p:nvSpPr>
          <p:spPr>
            <a:xfrm flipV="1">
              <a:off x="1270440" y="4652640"/>
              <a:ext cx="0" cy="14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Line 78"/>
          <p:cNvSpPr/>
          <p:nvPr/>
        </p:nvSpPr>
        <p:spPr>
          <a:xfrm>
            <a:off x="2484360" y="5229360"/>
            <a:ext cx="0" cy="360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79"/>
          <p:cNvSpPr/>
          <p:nvPr/>
        </p:nvSpPr>
        <p:spPr>
          <a:xfrm>
            <a:off x="2094480" y="54388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t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80"/>
          <p:cNvSpPr/>
          <p:nvPr/>
        </p:nvSpPr>
        <p:spPr>
          <a:xfrm>
            <a:off x="1129680" y="6093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mot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81"/>
          <p:cNvSpPr/>
          <p:nvPr/>
        </p:nvSpPr>
        <p:spPr>
          <a:xfrm>
            <a:off x="1692360" y="6381720"/>
            <a:ext cx="0" cy="333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82"/>
          <p:cNvSpPr/>
          <p:nvPr/>
        </p:nvSpPr>
        <p:spPr>
          <a:xfrm>
            <a:off x="3349080" y="6165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t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83"/>
          <p:cNvSpPr/>
          <p:nvPr/>
        </p:nvSpPr>
        <p:spPr>
          <a:xfrm>
            <a:off x="3780000" y="6453360"/>
            <a:ext cx="0" cy="333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84"/>
          <p:cNvSpPr/>
          <p:nvPr/>
        </p:nvSpPr>
        <p:spPr>
          <a:xfrm>
            <a:off x="2891520" y="6597720"/>
            <a:ext cx="165456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Enterobac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IMViC T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dole,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hyl Red,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ges-Prosakaur,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rate (IMViC) Tes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llowing four tests comprise a series of important determinations that are collectively called the IMViC series of reac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MViC series of reactions allows for the differentiation of the various members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terobacteriacea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ractical 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 on T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ole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P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trate Utilization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ease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4645080" y="1847880"/>
            <a:ext cx="4174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MViC: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ndole t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919080"/>
            <a:ext cx="807552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in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r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ain microorganisms can metabolize tryptophan by tryptophan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r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zymatic degradation leads to the formation of pyruvic acid, indole and ammo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r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sence of indole is detected by addition of Kovac's reag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 algn="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04040" y="5070600"/>
            <a:ext cx="214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ryptoph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mino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2195640" y="5373720"/>
            <a:ext cx="23050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121120" y="4903920"/>
            <a:ext cx="21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ryptophan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4608720" y="510840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dole + Pyurvic acid + NH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5076720" y="5589720"/>
            <a:ext cx="0" cy="576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5363640" y="558324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ovac’s Reag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3061440" y="6230880"/>
            <a:ext cx="416592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 color in upper organic layer`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MViC: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ndole t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1195200"/>
            <a:ext cx="8218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tho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oculate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tryptone wa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with the tested microorganis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ubate at 37°C for 24 hou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ter incubation interval, add 1 ml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Kovacs reag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shake the tube gently and read immedia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468936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MViC: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ndole t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476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bright pink color in the top layer indicates the presence of indo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bsence of color means that indole was not produced i.e. indole is neg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pecial Featu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d in the differentiation of genera and species. e.g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+) from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lebsiell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-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4" descr="indolea"/>
          <p:cNvPicPr/>
          <p:nvPr/>
        </p:nvPicPr>
        <p:blipFill>
          <a:blip r:embed="rId1"/>
          <a:stretch/>
        </p:blipFill>
        <p:spPr>
          <a:xfrm>
            <a:off x="5724360" y="2205000"/>
            <a:ext cx="3024360" cy="3868920"/>
          </a:xfrm>
          <a:prstGeom prst="rect">
            <a:avLst/>
          </a:prstGeom>
          <a:ln w="0">
            <a:noFill/>
          </a:ln>
        </p:spPr>
      </p:pic>
      <p:sp>
        <p:nvSpPr>
          <p:cNvPr id="180" name="Line 5"/>
          <p:cNvSpPr/>
          <p:nvPr/>
        </p:nvSpPr>
        <p:spPr>
          <a:xfrm flipV="1">
            <a:off x="7956720" y="1844640"/>
            <a:ext cx="0" cy="1727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7504560" y="1100160"/>
            <a:ext cx="168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itive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. co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7"/>
          <p:cNvSpPr/>
          <p:nvPr/>
        </p:nvSpPr>
        <p:spPr>
          <a:xfrm flipH="1" flipV="1">
            <a:off x="6300360" y="1773360"/>
            <a:ext cx="71640" cy="20145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5435280" y="1100160"/>
            <a:ext cx="187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gative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Klebsie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2360" y="277920"/>
            <a:ext cx="91440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V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C test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thyl Red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oges Proskauer (MR-VP) 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1476360" y="1773360"/>
            <a:ext cx="6480000" cy="934560"/>
            <a:chOff x="1476360" y="1773360"/>
            <a:chExt cx="6480000" cy="934560"/>
          </a:xfrm>
        </p:grpSpPr>
        <p:sp>
          <p:nvSpPr>
            <p:cNvPr id="186" name="Line 5"/>
            <p:cNvSpPr/>
            <p:nvPr/>
          </p:nvSpPr>
          <p:spPr>
            <a:xfrm>
              <a:off x="1476360" y="2006640"/>
              <a:ext cx="6480000" cy="1180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6"/>
            <p:cNvSpPr/>
            <p:nvPr/>
          </p:nvSpPr>
          <p:spPr>
            <a:xfrm>
              <a:off x="1476360" y="2006640"/>
              <a:ext cx="0" cy="5828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7"/>
            <p:cNvSpPr/>
            <p:nvPr/>
          </p:nvSpPr>
          <p:spPr>
            <a:xfrm>
              <a:off x="7956360" y="2125080"/>
              <a:ext cx="0" cy="5828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8"/>
            <p:cNvSpPr/>
            <p:nvPr/>
          </p:nvSpPr>
          <p:spPr>
            <a:xfrm flipV="1">
              <a:off x="4761360" y="1773360"/>
              <a:ext cx="0" cy="2332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Text Box 9"/>
          <p:cNvSpPr/>
          <p:nvPr/>
        </p:nvSpPr>
        <p:spPr>
          <a:xfrm>
            <a:off x="4281120" y="126828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252000" y="278136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idic path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250920" y="43657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ixed acid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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H less than 4.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1116000" y="5084640"/>
            <a:ext cx="0" cy="1079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1233360" y="5229360"/>
            <a:ext cx="15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Methyl 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indicat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469800" y="62118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d co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397080" y="1052640"/>
            <a:ext cx="16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inci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1403280" y="3284640"/>
            <a:ext cx="0" cy="863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Oval 18"/>
          <p:cNvSpPr/>
          <p:nvPr/>
        </p:nvSpPr>
        <p:spPr>
          <a:xfrm rot="2051400">
            <a:off x="1579320" y="650880"/>
            <a:ext cx="2592360" cy="6523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2050920" y="6453360"/>
            <a:ext cx="71928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2771280" y="6040440"/>
            <a:ext cx="160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R posi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E. co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4786200" y="28735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7088400" y="287352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utral path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24"/>
          <p:cNvSpPr/>
          <p:nvPr/>
        </p:nvSpPr>
        <p:spPr>
          <a:xfrm>
            <a:off x="7956720" y="3214800"/>
            <a:ext cx="0" cy="7189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5"/>
          <p:cNvSpPr/>
          <p:nvPr/>
        </p:nvSpPr>
        <p:spPr>
          <a:xfrm>
            <a:off x="6390000" y="3952800"/>
            <a:ext cx="25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ety methyl carbin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ACETOI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27"/>
          <p:cNvSpPr/>
          <p:nvPr/>
        </p:nvSpPr>
        <p:spPr>
          <a:xfrm>
            <a:off x="7956720" y="4653000"/>
            <a:ext cx="0" cy="1297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6589080" y="501336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arrit’s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arrit;s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9"/>
          <p:cNvSpPr/>
          <p:nvPr/>
        </p:nvSpPr>
        <p:spPr>
          <a:xfrm>
            <a:off x="7222680" y="61578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ink co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31"/>
          <p:cNvSpPr/>
          <p:nvPr/>
        </p:nvSpPr>
        <p:spPr>
          <a:xfrm flipH="1">
            <a:off x="6227640" y="6308640"/>
            <a:ext cx="93672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32"/>
          <p:cNvSpPr/>
          <p:nvPr/>
        </p:nvSpPr>
        <p:spPr>
          <a:xfrm>
            <a:off x="4860360" y="5956200"/>
            <a:ext cx="14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P posi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Klebsie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33"/>
          <p:cNvSpPr/>
          <p:nvPr/>
        </p:nvSpPr>
        <p:spPr>
          <a:xfrm>
            <a:off x="757548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34"/>
          <p:cNvSpPr/>
          <p:nvPr/>
        </p:nvSpPr>
        <p:spPr>
          <a:xfrm rot="19773000">
            <a:off x="5881680" y="934560"/>
            <a:ext cx="2513160" cy="5902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V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C test: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P t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915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2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oculate the tested organism into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ne tu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MRV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ro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2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bate the tubes at 37°C for 24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2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INCUBATION:  Pour 1/3 of the suspension into a clean nonsterile tube: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2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the MR test in the tube with 2/3, and the VP test in the open tube with 1/3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3808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methyl red:  Add 6-8 drops of methyl red reag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3808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Voges-Proskauer:  Add 12 drops of Barritt's A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naphthol), mix, 4 drops of Barritt's B (40% KOH), mi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-3808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 sit,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ndisturb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for at least 1h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 algn="r">
              <a:lnSpc>
                <a:spcPct val="2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76480" y="549360"/>
            <a:ext cx="19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V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C test: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P t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5" descr="mr"/>
          <p:cNvPicPr/>
          <p:nvPr/>
        </p:nvPicPr>
        <p:blipFill>
          <a:blip r:embed="rId1"/>
          <a:srcRect l="0" t="9449" r="0" b="0"/>
          <a:stretch/>
        </p:blipFill>
        <p:spPr>
          <a:xfrm>
            <a:off x="826920" y="1268280"/>
            <a:ext cx="3621240" cy="34959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564840" y="765000"/>
            <a:ext cx="17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1690560" y="490392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hyl Red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9" descr="vp"/>
          <p:cNvPicPr/>
          <p:nvPr/>
        </p:nvPicPr>
        <p:blipFill>
          <a:blip r:embed="rId2"/>
          <a:stretch/>
        </p:blipFill>
        <p:spPr>
          <a:xfrm>
            <a:off x="5003640" y="1341360"/>
            <a:ext cx="3333960" cy="33339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0"/>
          <p:cNvSpPr/>
          <p:nvPr/>
        </p:nvSpPr>
        <p:spPr>
          <a:xfrm>
            <a:off x="5533920" y="4869000"/>
            <a:ext cx="27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ges-Proskauer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-43920" y="5373720"/>
            <a:ext cx="35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d: Positive MR (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E. coli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-40680" y="5902200"/>
            <a:ext cx="507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Yellow or orange: Negative MR (Klebsiella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4924800" y="5300640"/>
            <a:ext cx="396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ink: Positive VP (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Klebsiell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4996440" y="5877000"/>
            <a:ext cx="400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 pink: Negative VP (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E. coli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826920" y="189000"/>
            <a:ext cx="655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itrate Utilization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324360" y="401760"/>
            <a:ext cx="20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inci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20040" y="137628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Cit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7617960" y="1341360"/>
            <a:ext cx="125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Na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7065000" y="3032280"/>
            <a:ext cx="17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Alkaline,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↑p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2956320" y="5357880"/>
            <a:ext cx="2189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Blue col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Group 14"/>
          <p:cNvGrpSpPr/>
          <p:nvPr/>
        </p:nvGrpSpPr>
        <p:grpSpPr>
          <a:xfrm>
            <a:off x="5075280" y="2081160"/>
            <a:ext cx="576360" cy="1419120"/>
            <a:chOff x="5075280" y="2081160"/>
            <a:chExt cx="576360" cy="1419120"/>
          </a:xfrm>
        </p:grpSpPr>
        <p:sp>
          <p:nvSpPr>
            <p:cNvPr id="232" name="AutoShape 15"/>
            <p:cNvSpPr/>
            <p:nvPr/>
          </p:nvSpPr>
          <p:spPr>
            <a:xfrm flipH="1">
              <a:off x="5147640" y="2544840"/>
              <a:ext cx="430200" cy="86364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3" name="Picture 16" descr="SPECIMEN"/>
            <p:cNvPicPr/>
            <p:nvPr/>
          </p:nvPicPr>
          <p:blipFill>
            <a:blip r:embed="rId1"/>
            <a:stretch/>
          </p:blipFill>
          <p:spPr>
            <a:xfrm>
              <a:off x="5075280" y="2081160"/>
              <a:ext cx="576360" cy="141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Group 17"/>
          <p:cNvGrpSpPr/>
          <p:nvPr/>
        </p:nvGrpSpPr>
        <p:grpSpPr>
          <a:xfrm>
            <a:off x="2340000" y="4660920"/>
            <a:ext cx="576360" cy="1289160"/>
            <a:chOff x="2340000" y="4660920"/>
            <a:chExt cx="576360" cy="1289160"/>
          </a:xfrm>
        </p:grpSpPr>
        <p:sp>
          <p:nvSpPr>
            <p:cNvPr id="235" name="AutoShape 18"/>
            <p:cNvSpPr/>
            <p:nvPr/>
          </p:nvSpPr>
          <p:spPr>
            <a:xfrm flipH="1">
              <a:off x="2412360" y="5013360"/>
              <a:ext cx="430200" cy="863640"/>
            </a:xfrm>
            <a:prstGeom prst="rtTriangle">
              <a:avLst/>
            </a:prstGeom>
            <a:solidFill>
              <a:srgbClr val="00008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6" name="Picture 19" descr="SPECIMEN"/>
            <p:cNvPicPr/>
            <p:nvPr/>
          </p:nvPicPr>
          <p:blipFill>
            <a:blip r:embed="rId2"/>
            <a:stretch/>
          </p:blipFill>
          <p:spPr>
            <a:xfrm>
              <a:off x="2340000" y="4660920"/>
              <a:ext cx="576360" cy="128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Text Box 24"/>
          <p:cNvSpPr/>
          <p:nvPr/>
        </p:nvSpPr>
        <p:spPr>
          <a:xfrm>
            <a:off x="5082480" y="491652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romothymol b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7"/>
          <p:cNvSpPr/>
          <p:nvPr/>
        </p:nvSpPr>
        <p:spPr>
          <a:xfrm>
            <a:off x="3803760" y="3392640"/>
            <a:ext cx="32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Simmone’s Citrate 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45"/>
          <p:cNvSpPr/>
          <p:nvPr/>
        </p:nvSpPr>
        <p:spPr>
          <a:xfrm>
            <a:off x="396720" y="6014880"/>
            <a:ext cx="57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ositive test: Klebsiella, Enterobacter, Citrobac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49"/>
          <p:cNvSpPr/>
          <p:nvPr/>
        </p:nvSpPr>
        <p:spPr>
          <a:xfrm>
            <a:off x="4569120" y="141300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2 + Na + H2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51"/>
          <p:cNvSpPr/>
          <p:nvPr/>
        </p:nvSpPr>
        <p:spPr>
          <a:xfrm>
            <a:off x="2411640" y="141300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yruv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54"/>
          <p:cNvSpPr/>
          <p:nvPr/>
        </p:nvSpPr>
        <p:spPr>
          <a:xfrm>
            <a:off x="3708360" y="1628640"/>
            <a:ext cx="936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55"/>
          <p:cNvSpPr/>
          <p:nvPr/>
        </p:nvSpPr>
        <p:spPr>
          <a:xfrm>
            <a:off x="6659640" y="1628640"/>
            <a:ext cx="936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56"/>
          <p:cNvSpPr/>
          <p:nvPr/>
        </p:nvSpPr>
        <p:spPr>
          <a:xfrm>
            <a:off x="8028000" y="1844640"/>
            <a:ext cx="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5" name="AutoShape 57"/>
          <p:cNvCxnSpPr>
            <a:stCxn id="229" idx="2"/>
          </p:cNvCxnSpPr>
          <p:nvPr/>
        </p:nvCxnSpPr>
        <p:spPr>
          <a:xfrm rot="5400000">
            <a:off x="5560200" y="3276360"/>
            <a:ext cx="2232720" cy="2537640"/>
          </a:xfrm>
          <a:prstGeom prst="bentConnector2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246" name="Text Box 58"/>
          <p:cNvSpPr/>
          <p:nvPr/>
        </p:nvSpPr>
        <p:spPr>
          <a:xfrm>
            <a:off x="707040" y="5342040"/>
            <a:ext cx="168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Positive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59"/>
          <p:cNvSpPr/>
          <p:nvPr/>
        </p:nvSpPr>
        <p:spPr>
          <a:xfrm>
            <a:off x="427680" y="6446880"/>
            <a:ext cx="25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egative test: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 E. co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61"/>
          <p:cNvSpPr/>
          <p:nvPr/>
        </p:nvSpPr>
        <p:spPr>
          <a:xfrm>
            <a:off x="2982600" y="3763800"/>
            <a:ext cx="476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Contains Citrate as a sole of C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62"/>
          <p:cNvSpPr/>
          <p:nvPr/>
        </p:nvSpPr>
        <p:spPr>
          <a:xfrm>
            <a:off x="1476360" y="1628640"/>
            <a:ext cx="9367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0" name="AutoShape 63"/>
          <p:cNvCxnSpPr/>
          <p:nvPr/>
        </p:nvCxnSpPr>
        <p:spPr>
          <a:xfrm rot="10800000">
            <a:off x="850320" y="1772640"/>
            <a:ext cx="2642040" cy="1881720"/>
          </a:xfrm>
          <a:prstGeom prst="bentConnector2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6T13:09:48Z</dcterms:created>
  <dc:creator>User</dc:creator>
  <dc:description/>
  <dc:language>en-US</dc:language>
  <cp:lastModifiedBy>ahmed i-tech</cp:lastModifiedBy>
  <dcterms:modified xsi:type="dcterms:W3CDTF">2016-11-11T06:24:44Z</dcterms:modified>
  <cp:revision>33</cp:revision>
  <dc:subject/>
  <dc:title>Enterobacteriacea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