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1.png" ContentType="image/pn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wmf" ContentType="image/x-wmf"/>
  <Override PartName="/ppt/media/image13.png" ContentType="image/png"/>
  <Override PartName="/ppt/media/image12.png" ContentType="image/png"/>
  <Override PartName="/ppt/media/image7.wmf" ContentType="image/x-wmf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EBD4-B410-4F14-AF61-0C7B00876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FE88-FDF2-41C7-A094-421A5DD75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6846-5167-42F5-9671-37420674B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6A93-4DCB-4A9F-B55F-6688247D7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B6B8D-A761-4C80-A971-BBA92A62F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FAABE-EEF6-4FFC-BB34-860AEC9C3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6A7BD-F26D-4FC6-8CAB-3E0B26F32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E5C4D-FBBA-4C76-B62E-E846931CF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FD1CD-B3A9-437D-960E-80167123C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89DAE-F6F7-4B1C-B1A0-252A7623C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5E6DF-D030-4D53-B3D1-B2F2E6E43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789E-C820-4A39-84D7-F7B0B12AA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99FC0-291D-4DFE-BEA3-3D2599A7B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4CF1B-C935-4043-92E0-256B038A6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C170B-B0D5-46DD-9074-2434102B6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C670F-0212-4F9C-9DFA-F65AFE85F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0B1DC-6779-4F44-80AE-B18911E09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D7EB-3729-476E-AD41-C2E2DC3A1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C838-705A-4AE1-ADEA-3E0A9DD48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5D63-4C4C-47F9-8F0B-00EE7C697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4464-2EA2-4CE8-AE99-F6638625E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E9AF-C43E-499C-9905-CF69C09CA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064D-8B27-43B9-8555-FCF14F53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6DF9-D91E-490B-9545-17ADF8E81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4817A-6471-4016-A508-9243256994E3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995BC-394E-40FD-949F-CC8F5C0DEBC6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hitewolf.newcastle.edu.au/techinfo/med_bacto.html#tryptonebroth" TargetMode="External"/><Relationship Id="rId2" Type="http://schemas.openxmlformats.org/officeDocument/2006/relationships/hyperlink" Target="http://whitewolf.newcastle.edu.au/techinfo/bio_reagent.html#kovac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hitewolf.newcastle.edu.au/techinfo/med_bacto.html#buffgluc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3300"/>
                </a:solidFill>
                <a:latin typeface="Arial"/>
              </a:rPr>
              <a:t>Enterobacteriacea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Biochemical Reac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Citrate Utilization Tes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3120" y="4652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>
              <a:lnSpc>
                <a:spcPct val="14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ubate at 37°C for 24 hou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179280" y="1731960"/>
            <a:ext cx="229896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etho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323640" y="2827440"/>
            <a:ext cx="8538480" cy="20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eak a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immon's Citrate aga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lant wit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organis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Citrate Utilization Te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916280"/>
            <a:ext cx="4762440" cy="36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ine for growth (+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wth on the medium is accompanied by a rise in pH to change the medium from its initial green color to deep bl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4" descr="cita"/>
          <p:cNvPicPr/>
          <p:nvPr/>
        </p:nvPicPr>
        <p:blipFill>
          <a:blip r:embed="rId1"/>
          <a:stretch/>
        </p:blipFill>
        <p:spPr>
          <a:xfrm>
            <a:off x="5808600" y="1700280"/>
            <a:ext cx="3335400" cy="357336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5"/>
          <p:cNvSpPr/>
          <p:nvPr/>
        </p:nvSpPr>
        <p:spPr>
          <a:xfrm>
            <a:off x="534240" y="1058760"/>
            <a:ext cx="195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esul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Line 6"/>
          <p:cNvSpPr/>
          <p:nvPr/>
        </p:nvSpPr>
        <p:spPr>
          <a:xfrm flipH="1">
            <a:off x="5579640" y="5084640"/>
            <a:ext cx="1297080" cy="8654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7"/>
          <p:cNvSpPr/>
          <p:nvPr/>
        </p:nvSpPr>
        <p:spPr>
          <a:xfrm>
            <a:off x="2598120" y="5943600"/>
            <a:ext cx="307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osi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Klebsiella, Enterobac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Line 8"/>
          <p:cNvSpPr/>
          <p:nvPr/>
        </p:nvSpPr>
        <p:spPr>
          <a:xfrm>
            <a:off x="8317080" y="4869000"/>
            <a:ext cx="0" cy="1224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7650000" y="6021360"/>
            <a:ext cx="124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Nega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E. col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1" dur="2000" fill="hold"/>
                                        <p:tgtEl>
                                          <p:spTgt spid="2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1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6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1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6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002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Urease Te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11280" y="1052280"/>
            <a:ext cx="807552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ea agar contains urea and phenol 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ease is an enzyme that catalyzes the conversion of urea to CO2 and NH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monia combines with water to produce ammonium hydroxide, a strong base which ↑ pH of the medium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↑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pH causes phenol red r to turn a deep pink. This is indicative of a positive reaction for ur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397080" y="3933720"/>
            <a:ext cx="801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Ure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Line 5"/>
          <p:cNvSpPr/>
          <p:nvPr/>
        </p:nvSpPr>
        <p:spPr>
          <a:xfrm>
            <a:off x="1187280" y="4221000"/>
            <a:ext cx="115272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1170360" y="3789360"/>
            <a:ext cx="103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U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9"/>
          <p:cNvSpPr/>
          <p:nvPr/>
        </p:nvSpPr>
        <p:spPr>
          <a:xfrm>
            <a:off x="2290680" y="4010040"/>
            <a:ext cx="1630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CO2 + NH3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Line 10"/>
          <p:cNvSpPr/>
          <p:nvPr/>
        </p:nvSpPr>
        <p:spPr>
          <a:xfrm>
            <a:off x="3924360" y="4221000"/>
            <a:ext cx="107928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11"/>
          <p:cNvSpPr/>
          <p:nvPr/>
        </p:nvSpPr>
        <p:spPr>
          <a:xfrm>
            <a:off x="3996360" y="375300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H2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12"/>
          <p:cNvSpPr/>
          <p:nvPr/>
        </p:nvSpPr>
        <p:spPr>
          <a:xfrm>
            <a:off x="4934880" y="397980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NH4 O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Line 16"/>
          <p:cNvSpPr/>
          <p:nvPr/>
        </p:nvSpPr>
        <p:spPr>
          <a:xfrm>
            <a:off x="6229440" y="4221000"/>
            <a:ext cx="86364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17"/>
          <p:cNvSpPr/>
          <p:nvPr/>
        </p:nvSpPr>
        <p:spPr>
          <a:xfrm>
            <a:off x="7092360" y="4005360"/>
            <a:ext cx="9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↑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n p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4" name="AutoShape 18"/>
          <p:cNvCxnSpPr>
            <a:stCxn id="273" idx="3"/>
          </p:cNvCxnSpPr>
          <p:nvPr/>
        </p:nvCxnSpPr>
        <p:spPr>
          <a:xfrm>
            <a:off x="8080200" y="4203360"/>
            <a:ext cx="401040" cy="1043640"/>
          </a:xfrm>
          <a:prstGeom prst="bentConnector2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275" name="Text Box 19"/>
          <p:cNvSpPr/>
          <p:nvPr/>
        </p:nvSpPr>
        <p:spPr>
          <a:xfrm>
            <a:off x="6519600" y="4581360"/>
            <a:ext cx="157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Phenol 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20"/>
          <p:cNvSpPr/>
          <p:nvPr/>
        </p:nvSpPr>
        <p:spPr>
          <a:xfrm>
            <a:off x="7450560" y="5157720"/>
            <a:ext cx="168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in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ositive t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 Box 142"/>
          <p:cNvSpPr/>
          <p:nvPr/>
        </p:nvSpPr>
        <p:spPr>
          <a:xfrm>
            <a:off x="678600" y="5597640"/>
            <a:ext cx="565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reak a urea agar tube with the organis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ubate at 37°C for 24 h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143"/>
          <p:cNvSpPr/>
          <p:nvPr/>
        </p:nvSpPr>
        <p:spPr>
          <a:xfrm>
            <a:off x="319320" y="5013360"/>
            <a:ext cx="199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eth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144"/>
          <p:cNvSpPr/>
          <p:nvPr/>
        </p:nvSpPr>
        <p:spPr>
          <a:xfrm>
            <a:off x="248760" y="404640"/>
            <a:ext cx="22316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rinci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Urease Te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5400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color of medium turns from yellow to pink indicates positive tes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roteu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ive positive reaction after 4 h whil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Kelebsiell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nterobact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ave positive results after 24 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6"/>
          <p:cNvSpPr/>
          <p:nvPr/>
        </p:nvSpPr>
        <p:spPr>
          <a:xfrm>
            <a:off x="175680" y="851040"/>
            <a:ext cx="199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esul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Picture 7" descr="PHOTO63"/>
          <p:cNvPicPr/>
          <p:nvPr/>
        </p:nvPicPr>
        <p:blipFill>
          <a:blip r:embed="rId3"/>
          <a:stretch/>
        </p:blipFill>
        <p:spPr>
          <a:xfrm>
            <a:off x="6305400" y="1700280"/>
            <a:ext cx="2011680" cy="2743200"/>
          </a:xfrm>
          <a:prstGeom prst="rect">
            <a:avLst/>
          </a:prstGeom>
          <a:ln w="0">
            <a:noFill/>
          </a:ln>
        </p:spPr>
      </p:pic>
      <p:sp>
        <p:nvSpPr>
          <p:cNvPr id="284" name="Line 8"/>
          <p:cNvSpPr/>
          <p:nvPr/>
        </p:nvSpPr>
        <p:spPr>
          <a:xfrm flipH="1">
            <a:off x="6011640" y="4292640"/>
            <a:ext cx="647640" cy="15843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9"/>
          <p:cNvSpPr/>
          <p:nvPr/>
        </p:nvSpPr>
        <p:spPr>
          <a:xfrm>
            <a:off x="5131080" y="5877000"/>
            <a:ext cx="152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ositive t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Line 10"/>
          <p:cNvSpPr/>
          <p:nvPr/>
        </p:nvSpPr>
        <p:spPr>
          <a:xfrm>
            <a:off x="7956720" y="4508640"/>
            <a:ext cx="287280" cy="13683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11"/>
          <p:cNvSpPr/>
          <p:nvPr/>
        </p:nvSpPr>
        <p:spPr>
          <a:xfrm>
            <a:off x="7144920" y="5870520"/>
            <a:ext cx="16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Negative t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Reaction on Triple Sugar Iron (TSI) Ag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893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SI cont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ree different types of sug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12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lucose (1 par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12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ctose (10 par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12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crose (10 par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enol red (acidic: Yello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SI dispensed in tubes with equal butt &amp; s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ncip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determine the ability of an organism to attack a specific carbohydrate incorporated into a basal growth medium, with or without the production of gas, along with the determination of possible hydrogen sulphide productio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Picture 4" descr=""/>
          <p:cNvPicPr/>
          <p:nvPr/>
        </p:nvPicPr>
        <p:blipFill>
          <a:blip r:embed="rId7"/>
          <a:stretch/>
        </p:blipFill>
        <p:spPr>
          <a:xfrm>
            <a:off x="8244000" y="2206800"/>
            <a:ext cx="647640" cy="251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action on TS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tho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oculate TSI medium with an organism by inoculating needle by stabbing the butt and streaking the s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ubate at 37°C for 24 hou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3" name=""/>
          <p:cNvGraphicFramePr/>
          <p:nvPr/>
        </p:nvGraphicFramePr>
        <p:xfrm>
          <a:off x="108000" y="938160"/>
          <a:ext cx="6697440" cy="5684760"/>
        </p:xfrm>
        <a:graphic>
          <a:graphicData uri="http://schemas.openxmlformats.org/drawingml/2006/table">
            <a:tbl>
              <a:tblPr/>
              <a:tblGrid>
                <a:gridCol w="850680"/>
                <a:gridCol w="1020960"/>
                <a:gridCol w="1023840"/>
                <a:gridCol w="2098800"/>
                <a:gridCol w="1703160"/>
              </a:tblGrid>
              <a:tr h="4204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Reaction on TS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Resul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73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Butt col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Slant col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H</a:t>
                      </a:r>
                      <a:r>
                        <a:rPr b="1" lang="en-US" sz="1800" spc="-1" strike="noStrike" baseline="-30000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R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R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Negati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Alk/Alk/-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(No action on sugar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Non fermenter e.g. 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Pseudomon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05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Yello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R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Negati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/Alk/-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Glucose fermented without  H</a:t>
                      </a:r>
                      <a:r>
                        <a:rPr b="0" lang="en-US" sz="1800" spc="-1" strike="noStrike" baseline="-30000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LNF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e.g. 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Shigell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3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Yello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R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Positi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black in but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/Alk/+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Glucose fermented with H</a:t>
                      </a:r>
                      <a:r>
                        <a:rPr b="0" lang="en-US" sz="1800" spc="-1" strike="noStrike" baseline="-30000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LNF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e.g. 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Salmonella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 &amp; 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Prote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Yello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Yello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Negati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A/A/-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(three sugars are fermented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LF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e.g. 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E. coli, Klebsiella, Enterobact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  <p:sp>
        <p:nvSpPr>
          <p:cNvPr id="294" name="Text Box 43"/>
          <p:cNvSpPr/>
          <p:nvPr/>
        </p:nvSpPr>
        <p:spPr>
          <a:xfrm>
            <a:off x="3659040" y="44280"/>
            <a:ext cx="163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Resu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Picture 45" descr=""/>
          <p:cNvPicPr/>
          <p:nvPr/>
        </p:nvPicPr>
        <p:blipFill>
          <a:blip r:embed="rId1"/>
          <a:stretch/>
        </p:blipFill>
        <p:spPr>
          <a:xfrm>
            <a:off x="6877080" y="1270080"/>
            <a:ext cx="22669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6" name=""/>
          <p:cNvGraphicFramePr/>
          <p:nvPr/>
        </p:nvGraphicFramePr>
        <p:xfrm>
          <a:off x="0" y="1052640"/>
          <a:ext cx="9144000" cy="5616360"/>
        </p:xfrm>
        <a:graphic>
          <a:graphicData uri="http://schemas.openxmlformats.org/drawingml/2006/table">
            <a:tbl>
              <a:tblPr/>
              <a:tblGrid>
                <a:gridCol w="1547640"/>
                <a:gridCol w="1079640"/>
                <a:gridCol w="1081080"/>
                <a:gridCol w="1295280"/>
                <a:gridCol w="1008360"/>
                <a:gridCol w="1081080"/>
                <a:gridCol w="792000"/>
                <a:gridCol w="1258920"/>
              </a:tblGrid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Gram sta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Oxida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Nitrate reducta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O/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MacConke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S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EM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E. col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ve ro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+/F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allic she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Citrobact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ve ro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+/F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r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Klebsiell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ve ro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+/F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r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Enterobact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ve ro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+/F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r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Salmonell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ve ro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+/F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L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LF/H2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lorles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Shigell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ve ro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+/F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L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L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lorles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Prote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ve ro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+/F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L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LF/H2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lorles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7" name="Text Box 151"/>
          <p:cNvSpPr/>
          <p:nvPr/>
        </p:nvSpPr>
        <p:spPr>
          <a:xfrm>
            <a:off x="765720" y="158760"/>
            <a:ext cx="755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ummary of  morphology, cultural characteristic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nd biochemical reactions of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Enterobacteriacea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8" name=""/>
          <p:cNvGraphicFramePr/>
          <p:nvPr/>
        </p:nvGraphicFramePr>
        <p:xfrm>
          <a:off x="0" y="1052640"/>
          <a:ext cx="9144000" cy="5619600"/>
        </p:xfrm>
        <a:graphic>
          <a:graphicData uri="http://schemas.openxmlformats.org/drawingml/2006/table">
            <a:tbl>
              <a:tblPr/>
              <a:tblGrid>
                <a:gridCol w="1692360"/>
                <a:gridCol w="934920"/>
                <a:gridCol w="1081080"/>
                <a:gridCol w="1295280"/>
                <a:gridCol w="792360"/>
                <a:gridCol w="1008000"/>
                <a:gridCol w="1081080"/>
                <a:gridCol w="1258920"/>
              </a:tblGrid>
              <a:tr h="73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TS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do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M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V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Citr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Urea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Motil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E. col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/A/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-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oti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Citrobacter freund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/A/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+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oti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Klebsiella pneumonia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/A/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Non moti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Enterobacter cloaca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/A/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Moti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almonella typh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A/Alk/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Moti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higella boyd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A/Alk/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Non moti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Proteus</a:t>
                      </a:r>
                      <a:r>
                        <a:rPr b="1" i="1" lang="ar-SA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mirabil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/Alk/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+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ti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warw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9" name="Text Box 86"/>
          <p:cNvSpPr/>
          <p:nvPr/>
        </p:nvSpPr>
        <p:spPr>
          <a:xfrm>
            <a:off x="765720" y="44280"/>
            <a:ext cx="755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ummary of  morphology, cultural characteristic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nd biochemical reactions of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Enterobacteriacea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3924360" y="333360"/>
            <a:ext cx="2879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xidase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3"/>
          <p:cNvSpPr/>
          <p:nvPr/>
        </p:nvSpPr>
        <p:spPr>
          <a:xfrm>
            <a:off x="6737400" y="90180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Posit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4"/>
          <p:cNvSpPr/>
          <p:nvPr/>
        </p:nvSpPr>
        <p:spPr>
          <a:xfrm>
            <a:off x="2118960" y="90180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Negat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Line 5"/>
          <p:cNvSpPr/>
          <p:nvPr/>
        </p:nvSpPr>
        <p:spPr>
          <a:xfrm>
            <a:off x="2627280" y="1268280"/>
            <a:ext cx="0" cy="216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6447600" y="1484280"/>
            <a:ext cx="178092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c0000"/>
                </a:solidFill>
                <a:latin typeface="Tahoma"/>
              </a:rPr>
              <a:t>Pseudomon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Line 7"/>
          <p:cNvSpPr/>
          <p:nvPr/>
        </p:nvSpPr>
        <p:spPr>
          <a:xfrm>
            <a:off x="7308720" y="1195560"/>
            <a:ext cx="0" cy="215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8"/>
          <p:cNvSpPr/>
          <p:nvPr/>
        </p:nvSpPr>
        <p:spPr>
          <a:xfrm>
            <a:off x="1308960" y="1413000"/>
            <a:ext cx="247428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c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bc0000"/>
                </a:solidFill>
                <a:latin typeface="Tahoma"/>
              </a:rPr>
              <a:t>Enterobacteriacea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7" name="Group 10"/>
          <p:cNvGrpSpPr/>
          <p:nvPr/>
        </p:nvGrpSpPr>
        <p:grpSpPr>
          <a:xfrm>
            <a:off x="2624400" y="691920"/>
            <a:ext cx="4614480" cy="216000"/>
            <a:chOff x="2624400" y="691920"/>
            <a:chExt cx="4614480" cy="216000"/>
          </a:xfrm>
        </p:grpSpPr>
        <p:sp>
          <p:nvSpPr>
            <p:cNvPr id="308" name="Line 11"/>
            <p:cNvSpPr/>
            <p:nvPr/>
          </p:nvSpPr>
          <p:spPr>
            <a:xfrm>
              <a:off x="2625120" y="784800"/>
              <a:ext cx="4611240" cy="33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Line 12"/>
            <p:cNvSpPr/>
            <p:nvPr/>
          </p:nvSpPr>
          <p:spPr>
            <a:xfrm flipH="1">
              <a:off x="7233120" y="802440"/>
              <a:ext cx="5760" cy="1054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Line 13"/>
            <p:cNvSpPr/>
            <p:nvPr/>
          </p:nvSpPr>
          <p:spPr>
            <a:xfrm flipH="1">
              <a:off x="2624400" y="802440"/>
              <a:ext cx="5760" cy="1054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Line 14"/>
            <p:cNvSpPr/>
            <p:nvPr/>
          </p:nvSpPr>
          <p:spPr>
            <a:xfrm flipV="1">
              <a:off x="4899960" y="691920"/>
              <a:ext cx="5760" cy="1054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2" name="WordArt 15"/>
          <p:cNvSpPr txBox="1"/>
          <p:nvPr/>
        </p:nvSpPr>
        <p:spPr>
          <a:xfrm>
            <a:off x="108000" y="0"/>
            <a:ext cx="453528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Identification of Gram's -ve rods</a:t>
            </a:r>
            <a:endParaRPr b="0" lang="en-US" sz="1800" spc="1" strike="noStrike">
              <a:ln w="1260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13" name="Text Box 16"/>
          <p:cNvSpPr/>
          <p:nvPr/>
        </p:nvSpPr>
        <p:spPr>
          <a:xfrm>
            <a:off x="5851800" y="2401920"/>
            <a:ext cx="316296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Nitrate test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+ve furth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duction to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17"/>
          <p:cNvSpPr/>
          <p:nvPr/>
        </p:nvSpPr>
        <p:spPr>
          <a:xfrm>
            <a:off x="5779440" y="3068640"/>
            <a:ext cx="36367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Growth on cetrimide agar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ale colonies with gre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igmen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Line 18"/>
          <p:cNvSpPr/>
          <p:nvPr/>
        </p:nvSpPr>
        <p:spPr>
          <a:xfrm>
            <a:off x="7308720" y="1779480"/>
            <a:ext cx="0" cy="216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Line 19"/>
          <p:cNvSpPr/>
          <p:nvPr/>
        </p:nvSpPr>
        <p:spPr>
          <a:xfrm>
            <a:off x="2627280" y="1773360"/>
            <a:ext cx="0" cy="215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20"/>
          <p:cNvSpPr/>
          <p:nvPr/>
        </p:nvSpPr>
        <p:spPr>
          <a:xfrm>
            <a:off x="1556640" y="1916280"/>
            <a:ext cx="21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MacConkey’s ag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&amp; T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8" name="Group 21"/>
          <p:cNvGrpSpPr/>
          <p:nvPr/>
        </p:nvGrpSpPr>
        <p:grpSpPr>
          <a:xfrm>
            <a:off x="971640" y="2492280"/>
            <a:ext cx="3600360" cy="289080"/>
            <a:chOff x="971640" y="2492280"/>
            <a:chExt cx="3600360" cy="289080"/>
          </a:xfrm>
        </p:grpSpPr>
        <p:sp>
          <p:nvSpPr>
            <p:cNvPr id="319" name="Line 22"/>
            <p:cNvSpPr/>
            <p:nvPr/>
          </p:nvSpPr>
          <p:spPr>
            <a:xfrm>
              <a:off x="971640" y="2637000"/>
              <a:ext cx="3600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Line 23"/>
            <p:cNvSpPr/>
            <p:nvPr/>
          </p:nvSpPr>
          <p:spPr>
            <a:xfrm>
              <a:off x="4572000" y="2637000"/>
              <a:ext cx="0" cy="144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Line 24"/>
            <p:cNvSpPr/>
            <p:nvPr/>
          </p:nvSpPr>
          <p:spPr>
            <a:xfrm>
              <a:off x="971640" y="2637000"/>
              <a:ext cx="0" cy="144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Line 25"/>
            <p:cNvSpPr/>
            <p:nvPr/>
          </p:nvSpPr>
          <p:spPr>
            <a:xfrm flipV="1">
              <a:off x="2627280" y="2492280"/>
              <a:ext cx="0" cy="144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3" name="Text Box 26"/>
          <p:cNvSpPr/>
          <p:nvPr/>
        </p:nvSpPr>
        <p:spPr>
          <a:xfrm>
            <a:off x="-3960" y="3332160"/>
            <a:ext cx="252936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Lactose fermen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 Box 27"/>
          <p:cNvSpPr/>
          <p:nvPr/>
        </p:nvSpPr>
        <p:spPr>
          <a:xfrm>
            <a:off x="-63720" y="2708280"/>
            <a:ext cx="2948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Pink colonies on MacConke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&amp; acidic butt and slant on TS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 Box 28"/>
          <p:cNvSpPr/>
          <p:nvPr/>
        </p:nvSpPr>
        <p:spPr>
          <a:xfrm>
            <a:off x="2682360" y="2708280"/>
            <a:ext cx="330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colorless colonies on MacConke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&amp; acidic butt alkaline slant onTS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Line 29"/>
          <p:cNvSpPr/>
          <p:nvPr/>
        </p:nvSpPr>
        <p:spPr>
          <a:xfrm>
            <a:off x="971640" y="3213000"/>
            <a:ext cx="0" cy="216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Line 30"/>
          <p:cNvSpPr/>
          <p:nvPr/>
        </p:nvSpPr>
        <p:spPr>
          <a:xfrm>
            <a:off x="4572000" y="3213000"/>
            <a:ext cx="0" cy="216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31"/>
          <p:cNvSpPr/>
          <p:nvPr/>
        </p:nvSpPr>
        <p:spPr>
          <a:xfrm>
            <a:off x="2846880" y="3319560"/>
            <a:ext cx="310392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Lactose non-fermen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Line 32"/>
          <p:cNvSpPr/>
          <p:nvPr/>
        </p:nvSpPr>
        <p:spPr>
          <a:xfrm>
            <a:off x="971640" y="3716280"/>
            <a:ext cx="0" cy="216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33"/>
          <p:cNvSpPr/>
          <p:nvPr/>
        </p:nvSpPr>
        <p:spPr>
          <a:xfrm>
            <a:off x="397080" y="3860640"/>
            <a:ext cx="12445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IMV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Tahoma"/>
              </a:rPr>
              <a:t>i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C t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&amp; E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1" name="Group 34"/>
          <p:cNvGrpSpPr/>
          <p:nvPr/>
        </p:nvGrpSpPr>
        <p:grpSpPr>
          <a:xfrm>
            <a:off x="1692360" y="5732280"/>
            <a:ext cx="2087280" cy="575640"/>
            <a:chOff x="1692360" y="5732280"/>
            <a:chExt cx="2087280" cy="575640"/>
          </a:xfrm>
        </p:grpSpPr>
        <p:sp>
          <p:nvSpPr>
            <p:cNvPr id="332" name="Line 35"/>
            <p:cNvSpPr/>
            <p:nvPr/>
          </p:nvSpPr>
          <p:spPr>
            <a:xfrm>
              <a:off x="1692360" y="6021720"/>
              <a:ext cx="2085840" cy="35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Line 36"/>
            <p:cNvSpPr/>
            <p:nvPr/>
          </p:nvSpPr>
          <p:spPr>
            <a:xfrm>
              <a:off x="3779640" y="6088680"/>
              <a:ext cx="0" cy="219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Line 37"/>
            <p:cNvSpPr/>
            <p:nvPr/>
          </p:nvSpPr>
          <p:spPr>
            <a:xfrm>
              <a:off x="1692360" y="6021720"/>
              <a:ext cx="0" cy="219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Line 38"/>
            <p:cNvSpPr/>
            <p:nvPr/>
          </p:nvSpPr>
          <p:spPr>
            <a:xfrm flipV="1">
              <a:off x="2495520" y="5732280"/>
              <a:ext cx="0" cy="289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6" name="Text Box 39"/>
          <p:cNvSpPr/>
          <p:nvPr/>
        </p:nvSpPr>
        <p:spPr>
          <a:xfrm>
            <a:off x="-19080" y="4724280"/>
            <a:ext cx="1711440" cy="15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IMV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Tahoma"/>
              </a:rPr>
              <a:t>i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++ - 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amp; black colonies with metalic shines on EM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Line 40"/>
          <p:cNvSpPr/>
          <p:nvPr/>
        </p:nvSpPr>
        <p:spPr>
          <a:xfrm>
            <a:off x="611280" y="6021360"/>
            <a:ext cx="0" cy="3603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 Box 41"/>
          <p:cNvSpPr/>
          <p:nvPr/>
        </p:nvSpPr>
        <p:spPr>
          <a:xfrm>
            <a:off x="209880" y="6302520"/>
            <a:ext cx="81000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ffff00"/>
                </a:solidFill>
                <a:latin typeface="Tahoma"/>
              </a:rPr>
              <a:t>E.col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 Box 42"/>
          <p:cNvSpPr/>
          <p:nvPr/>
        </p:nvSpPr>
        <p:spPr>
          <a:xfrm>
            <a:off x="1547640" y="4724280"/>
            <a:ext cx="171144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IMV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Tahoma"/>
              </a:rPr>
              <a:t>i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- - ++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Text Box 44"/>
          <p:cNvSpPr/>
          <p:nvPr/>
        </p:nvSpPr>
        <p:spPr>
          <a:xfrm>
            <a:off x="1079640" y="6597720"/>
            <a:ext cx="129024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ffff00"/>
                </a:solidFill>
                <a:latin typeface="Tahoma"/>
              </a:rPr>
              <a:t>Klebsiel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1" name="Group 45"/>
          <p:cNvGrpSpPr/>
          <p:nvPr/>
        </p:nvGrpSpPr>
        <p:grpSpPr>
          <a:xfrm>
            <a:off x="3778200" y="3644640"/>
            <a:ext cx="2088720" cy="287640"/>
            <a:chOff x="3778200" y="3644640"/>
            <a:chExt cx="2088720" cy="287640"/>
          </a:xfrm>
        </p:grpSpPr>
        <p:sp>
          <p:nvSpPr>
            <p:cNvPr id="342" name="Line 46"/>
            <p:cNvSpPr/>
            <p:nvPr/>
          </p:nvSpPr>
          <p:spPr>
            <a:xfrm>
              <a:off x="3778200" y="3789360"/>
              <a:ext cx="2087280" cy="17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Line 47"/>
            <p:cNvSpPr/>
            <p:nvPr/>
          </p:nvSpPr>
          <p:spPr>
            <a:xfrm>
              <a:off x="5866920" y="3822840"/>
              <a:ext cx="0" cy="109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Line 48"/>
            <p:cNvSpPr/>
            <p:nvPr/>
          </p:nvSpPr>
          <p:spPr>
            <a:xfrm>
              <a:off x="3778200" y="3789360"/>
              <a:ext cx="0" cy="109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Line 49"/>
            <p:cNvSpPr/>
            <p:nvPr/>
          </p:nvSpPr>
          <p:spPr>
            <a:xfrm flipV="1">
              <a:off x="4581720" y="3644640"/>
              <a:ext cx="0" cy="144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6" name="Text Box 50"/>
          <p:cNvSpPr/>
          <p:nvPr/>
        </p:nvSpPr>
        <p:spPr>
          <a:xfrm>
            <a:off x="2759400" y="3932280"/>
            <a:ext cx="19774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No H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S p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(no blacking in TSI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Text Box 51"/>
          <p:cNvSpPr/>
          <p:nvPr/>
        </p:nvSpPr>
        <p:spPr>
          <a:xfrm>
            <a:off x="5126400" y="3932280"/>
            <a:ext cx="167724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H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S p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(blacking in TSI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Line 52"/>
          <p:cNvSpPr/>
          <p:nvPr/>
        </p:nvSpPr>
        <p:spPr>
          <a:xfrm>
            <a:off x="4067280" y="4583160"/>
            <a:ext cx="0" cy="2858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3385440" y="4869000"/>
            <a:ext cx="120780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ffff00"/>
                </a:solidFill>
                <a:latin typeface="Tahoma"/>
              </a:rPr>
              <a:t>Shigel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Line 54"/>
          <p:cNvSpPr/>
          <p:nvPr/>
        </p:nvSpPr>
        <p:spPr>
          <a:xfrm>
            <a:off x="5940360" y="4506840"/>
            <a:ext cx="0" cy="216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Text Box 55"/>
          <p:cNvSpPr/>
          <p:nvPr/>
        </p:nvSpPr>
        <p:spPr>
          <a:xfrm>
            <a:off x="5037840" y="4646520"/>
            <a:ext cx="195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Urease p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2" name="Group 56"/>
          <p:cNvGrpSpPr/>
          <p:nvPr/>
        </p:nvGrpSpPr>
        <p:grpSpPr>
          <a:xfrm>
            <a:off x="5219640" y="5084280"/>
            <a:ext cx="2088720" cy="287640"/>
            <a:chOff x="5219640" y="5084280"/>
            <a:chExt cx="2088720" cy="287640"/>
          </a:xfrm>
        </p:grpSpPr>
        <p:sp>
          <p:nvSpPr>
            <p:cNvPr id="353" name="Line 57"/>
            <p:cNvSpPr/>
            <p:nvPr/>
          </p:nvSpPr>
          <p:spPr>
            <a:xfrm>
              <a:off x="5219640" y="5229000"/>
              <a:ext cx="2087280" cy="17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Line 58"/>
            <p:cNvSpPr/>
            <p:nvPr/>
          </p:nvSpPr>
          <p:spPr>
            <a:xfrm>
              <a:off x="7308360" y="5262480"/>
              <a:ext cx="0" cy="109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Line 59"/>
            <p:cNvSpPr/>
            <p:nvPr/>
          </p:nvSpPr>
          <p:spPr>
            <a:xfrm>
              <a:off x="5219640" y="5229000"/>
              <a:ext cx="0" cy="109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Line 60"/>
            <p:cNvSpPr/>
            <p:nvPr/>
          </p:nvSpPr>
          <p:spPr>
            <a:xfrm flipV="1">
              <a:off x="6023160" y="5084280"/>
              <a:ext cx="0" cy="144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7" name="Text Box 61"/>
          <p:cNvSpPr/>
          <p:nvPr/>
        </p:nvSpPr>
        <p:spPr>
          <a:xfrm>
            <a:off x="4946400" y="5229360"/>
            <a:ext cx="5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+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Line 62"/>
          <p:cNvSpPr/>
          <p:nvPr/>
        </p:nvSpPr>
        <p:spPr>
          <a:xfrm>
            <a:off x="5219640" y="5734080"/>
            <a:ext cx="0" cy="5032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Text Box 63"/>
          <p:cNvSpPr/>
          <p:nvPr/>
        </p:nvSpPr>
        <p:spPr>
          <a:xfrm>
            <a:off x="4754160" y="6237360"/>
            <a:ext cx="108000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ffff00"/>
                </a:solidFill>
                <a:latin typeface="Tahoma"/>
              </a:rPr>
              <a:t>Prote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 Box 64"/>
          <p:cNvSpPr/>
          <p:nvPr/>
        </p:nvSpPr>
        <p:spPr>
          <a:xfrm>
            <a:off x="7021080" y="5294160"/>
            <a:ext cx="49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Line 65"/>
          <p:cNvSpPr/>
          <p:nvPr/>
        </p:nvSpPr>
        <p:spPr>
          <a:xfrm>
            <a:off x="7308720" y="5659560"/>
            <a:ext cx="0" cy="144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xt Box 66"/>
          <p:cNvSpPr/>
          <p:nvPr/>
        </p:nvSpPr>
        <p:spPr>
          <a:xfrm>
            <a:off x="6804000" y="5726160"/>
            <a:ext cx="10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SS ag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Line 67"/>
          <p:cNvSpPr/>
          <p:nvPr/>
        </p:nvSpPr>
        <p:spPr>
          <a:xfrm>
            <a:off x="7236000" y="6093000"/>
            <a:ext cx="0" cy="144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68"/>
          <p:cNvSpPr/>
          <p:nvPr/>
        </p:nvSpPr>
        <p:spPr>
          <a:xfrm>
            <a:off x="5999040" y="6192720"/>
            <a:ext cx="320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lorless colonies with black cent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Line 69"/>
          <p:cNvSpPr/>
          <p:nvPr/>
        </p:nvSpPr>
        <p:spPr>
          <a:xfrm>
            <a:off x="7236000" y="6453360"/>
            <a:ext cx="0" cy="144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70"/>
          <p:cNvSpPr/>
          <p:nvPr/>
        </p:nvSpPr>
        <p:spPr>
          <a:xfrm>
            <a:off x="6551640" y="6518160"/>
            <a:ext cx="144720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ffff00"/>
                </a:solidFill>
                <a:latin typeface="Tahoma"/>
              </a:rPr>
              <a:t>Salmonel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71"/>
          <p:cNvSpPr/>
          <p:nvPr/>
        </p:nvSpPr>
        <p:spPr>
          <a:xfrm>
            <a:off x="6032880" y="2211480"/>
            <a:ext cx="20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O/F test: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/F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8" name="Group 72"/>
          <p:cNvGrpSpPr/>
          <p:nvPr/>
        </p:nvGrpSpPr>
        <p:grpSpPr>
          <a:xfrm>
            <a:off x="466560" y="4652640"/>
            <a:ext cx="2089080" cy="287640"/>
            <a:chOff x="466560" y="4652640"/>
            <a:chExt cx="2089080" cy="287640"/>
          </a:xfrm>
        </p:grpSpPr>
        <p:sp>
          <p:nvSpPr>
            <p:cNvPr id="369" name="Line 73"/>
            <p:cNvSpPr/>
            <p:nvPr/>
          </p:nvSpPr>
          <p:spPr>
            <a:xfrm>
              <a:off x="466560" y="4797360"/>
              <a:ext cx="2087640" cy="17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Line 74"/>
            <p:cNvSpPr/>
            <p:nvPr/>
          </p:nvSpPr>
          <p:spPr>
            <a:xfrm>
              <a:off x="2555640" y="4830840"/>
              <a:ext cx="0" cy="109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Line 75"/>
            <p:cNvSpPr/>
            <p:nvPr/>
          </p:nvSpPr>
          <p:spPr>
            <a:xfrm>
              <a:off x="466560" y="4797360"/>
              <a:ext cx="0" cy="109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Line 76"/>
            <p:cNvSpPr/>
            <p:nvPr/>
          </p:nvSpPr>
          <p:spPr>
            <a:xfrm flipV="1">
              <a:off x="1270440" y="4652640"/>
              <a:ext cx="0" cy="144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3" name="Line 78"/>
          <p:cNvSpPr/>
          <p:nvPr/>
        </p:nvSpPr>
        <p:spPr>
          <a:xfrm>
            <a:off x="2484360" y="5229360"/>
            <a:ext cx="0" cy="3603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 Box 79"/>
          <p:cNvSpPr/>
          <p:nvPr/>
        </p:nvSpPr>
        <p:spPr>
          <a:xfrm>
            <a:off x="2094480" y="543888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oti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 Box 80"/>
          <p:cNvSpPr/>
          <p:nvPr/>
        </p:nvSpPr>
        <p:spPr>
          <a:xfrm>
            <a:off x="1129680" y="609300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mot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Line 81"/>
          <p:cNvSpPr/>
          <p:nvPr/>
        </p:nvSpPr>
        <p:spPr>
          <a:xfrm>
            <a:off x="1692360" y="6381720"/>
            <a:ext cx="0" cy="3333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82"/>
          <p:cNvSpPr/>
          <p:nvPr/>
        </p:nvSpPr>
        <p:spPr>
          <a:xfrm>
            <a:off x="3349080" y="616572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t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Line 83"/>
          <p:cNvSpPr/>
          <p:nvPr/>
        </p:nvSpPr>
        <p:spPr>
          <a:xfrm>
            <a:off x="3780000" y="6453360"/>
            <a:ext cx="0" cy="3333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 Box 84"/>
          <p:cNvSpPr/>
          <p:nvPr/>
        </p:nvSpPr>
        <p:spPr>
          <a:xfrm>
            <a:off x="2891520" y="6597720"/>
            <a:ext cx="165456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ffff00"/>
                </a:solidFill>
                <a:latin typeface="Tahoma"/>
              </a:rPr>
              <a:t>Enterobac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1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7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6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IMViC Tes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dole,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thyl Red,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V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ges-Prosakaur,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rate (IMViC) Tes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ollowing four tests comprise a series of important determinations that are collectively called the IMViC series of reactio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MViC series of reactions allows for the differentiation of the various members 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nterobacteriacea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Practical Wor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ction on TS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ole T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R t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P t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itrate Utilization t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rease t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3" name="Picture 2" descr=""/>
          <p:cNvPicPr/>
          <p:nvPr/>
        </p:nvPicPr>
        <p:blipFill>
          <a:blip r:embed="rId1"/>
          <a:stretch/>
        </p:blipFill>
        <p:spPr>
          <a:xfrm>
            <a:off x="4645080" y="1847880"/>
            <a:ext cx="41749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MViC: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ndole te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919080"/>
            <a:ext cx="8075520" cy="39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rinci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 algn="r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rtain microorganisms can metabolize tryptophan by tryptophan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 algn="r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zymatic degradation leads to the formation of pyruvic acid, indole and ammon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 algn="r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esence of indole is detected by addition of Kovac's reag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 algn="r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104040" y="5070600"/>
            <a:ext cx="214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ryptopha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mino aci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5"/>
          <p:cNvSpPr/>
          <p:nvPr/>
        </p:nvSpPr>
        <p:spPr>
          <a:xfrm>
            <a:off x="2195640" y="5373720"/>
            <a:ext cx="230508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2121120" y="4903920"/>
            <a:ext cx="21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Tryptophanas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4608720" y="5108400"/>
            <a:ext cx="430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dole + Pyurvic acid + NH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8"/>
          <p:cNvSpPr/>
          <p:nvPr/>
        </p:nvSpPr>
        <p:spPr>
          <a:xfrm>
            <a:off x="5076720" y="5589720"/>
            <a:ext cx="0" cy="576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5363640" y="5583240"/>
            <a:ext cx="22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ovac’s Reag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3061440" y="6230880"/>
            <a:ext cx="416592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 color in upper organic layer`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MViC: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ndole te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000" y="1195200"/>
            <a:ext cx="8218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13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etho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oculate </a:t>
            </a:r>
            <a:r>
              <a:rPr b="0" lang="en-US" sz="2800" spc="-1" strike="noStrike" u="sng">
                <a:solidFill>
                  <a:srgbClr val="86d1ec"/>
                </a:solidFill>
                <a:uFillTx/>
                <a:latin typeface="Arial"/>
                <a:hlinkClick r:id="rId1"/>
              </a:rPr>
              <a:t>tryptone wate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with the tested microorganis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cubate at 37°C for 24 hou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fter incubation interval, add 1 ml </a:t>
            </a:r>
            <a:r>
              <a:rPr b="0" lang="en-US" sz="2800" spc="-1" strike="noStrike" u="sng">
                <a:solidFill>
                  <a:srgbClr val="86d1ec"/>
                </a:solidFill>
                <a:uFillTx/>
                <a:latin typeface="Arial"/>
                <a:hlinkClick r:id="rId2"/>
              </a:rPr>
              <a:t>Kovacs reagen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shake the tube gently and read immediat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277920"/>
            <a:ext cx="468936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MViC: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ndole te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557000"/>
            <a:ext cx="4762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457200">
              <a:lnSpc>
                <a:spcPct val="11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Resul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bright pink color in the top layer indicates the presence of indo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absence of color means that indole was not produced i.e. indole is nega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pecial Featur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d in the differentiation of genera and species. e.g.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E. col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(+) from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Klebsiell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(-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4" descr="indolea"/>
          <p:cNvPicPr/>
          <p:nvPr/>
        </p:nvPicPr>
        <p:blipFill>
          <a:blip r:embed="rId1"/>
          <a:stretch/>
        </p:blipFill>
        <p:spPr>
          <a:xfrm>
            <a:off x="5724360" y="2205000"/>
            <a:ext cx="3024360" cy="3868920"/>
          </a:xfrm>
          <a:prstGeom prst="rect">
            <a:avLst/>
          </a:prstGeom>
          <a:ln w="0">
            <a:noFill/>
          </a:ln>
        </p:spPr>
      </p:pic>
      <p:sp>
        <p:nvSpPr>
          <p:cNvPr id="180" name="Line 5"/>
          <p:cNvSpPr/>
          <p:nvPr/>
        </p:nvSpPr>
        <p:spPr>
          <a:xfrm flipV="1">
            <a:off x="7956720" y="1844640"/>
            <a:ext cx="0" cy="17272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7504560" y="1100160"/>
            <a:ext cx="168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itive t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.g.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E. col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Line 7"/>
          <p:cNvSpPr/>
          <p:nvPr/>
        </p:nvSpPr>
        <p:spPr>
          <a:xfrm flipH="1" flipV="1">
            <a:off x="6300360" y="1773360"/>
            <a:ext cx="71640" cy="20145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5435280" y="1100160"/>
            <a:ext cx="187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gative t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.g.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Klebsiel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52360" y="277920"/>
            <a:ext cx="914400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V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iC test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ethyl Red-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oges Proskauer (MR-VP) Te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5" name="Group 4"/>
          <p:cNvGrpSpPr/>
          <p:nvPr/>
        </p:nvGrpSpPr>
        <p:grpSpPr>
          <a:xfrm>
            <a:off x="1476360" y="1773360"/>
            <a:ext cx="6480000" cy="934560"/>
            <a:chOff x="1476360" y="1773360"/>
            <a:chExt cx="6480000" cy="934560"/>
          </a:xfrm>
        </p:grpSpPr>
        <p:sp>
          <p:nvSpPr>
            <p:cNvPr id="186" name="Line 5"/>
            <p:cNvSpPr/>
            <p:nvPr/>
          </p:nvSpPr>
          <p:spPr>
            <a:xfrm>
              <a:off x="1476360" y="2006640"/>
              <a:ext cx="6480000" cy="11808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6"/>
            <p:cNvSpPr/>
            <p:nvPr/>
          </p:nvSpPr>
          <p:spPr>
            <a:xfrm>
              <a:off x="1476360" y="2006640"/>
              <a:ext cx="0" cy="58284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Line 7"/>
            <p:cNvSpPr/>
            <p:nvPr/>
          </p:nvSpPr>
          <p:spPr>
            <a:xfrm>
              <a:off x="7956360" y="2125080"/>
              <a:ext cx="0" cy="58284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Line 8"/>
            <p:cNvSpPr/>
            <p:nvPr/>
          </p:nvSpPr>
          <p:spPr>
            <a:xfrm flipV="1">
              <a:off x="4761360" y="1773360"/>
              <a:ext cx="0" cy="23328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0" name="Text Box 9"/>
          <p:cNvSpPr/>
          <p:nvPr/>
        </p:nvSpPr>
        <p:spPr>
          <a:xfrm>
            <a:off x="4281120" y="1268280"/>
            <a:ext cx="158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luc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252000" y="2781360"/>
            <a:ext cx="239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cidic pathw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12"/>
          <p:cNvSpPr/>
          <p:nvPr/>
        </p:nvSpPr>
        <p:spPr>
          <a:xfrm>
            <a:off x="250920" y="436572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Mixed acid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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H less than 4.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Line 13"/>
          <p:cNvSpPr/>
          <p:nvPr/>
        </p:nvSpPr>
        <p:spPr>
          <a:xfrm>
            <a:off x="1116000" y="5084640"/>
            <a:ext cx="0" cy="10796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1233360" y="5229360"/>
            <a:ext cx="15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Methyl 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indicato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15"/>
          <p:cNvSpPr/>
          <p:nvPr/>
        </p:nvSpPr>
        <p:spPr>
          <a:xfrm>
            <a:off x="469800" y="621180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ed col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16"/>
          <p:cNvSpPr/>
          <p:nvPr/>
        </p:nvSpPr>
        <p:spPr>
          <a:xfrm>
            <a:off x="397080" y="1052640"/>
            <a:ext cx="168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inci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Line 17"/>
          <p:cNvSpPr/>
          <p:nvPr/>
        </p:nvSpPr>
        <p:spPr>
          <a:xfrm>
            <a:off x="1403280" y="3284640"/>
            <a:ext cx="0" cy="8636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Oval 18"/>
          <p:cNvSpPr/>
          <p:nvPr/>
        </p:nvSpPr>
        <p:spPr>
          <a:xfrm rot="2051400">
            <a:off x="1579320" y="650880"/>
            <a:ext cx="2592360" cy="6523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Line 20"/>
          <p:cNvSpPr/>
          <p:nvPr/>
        </p:nvSpPr>
        <p:spPr>
          <a:xfrm>
            <a:off x="2050920" y="6453360"/>
            <a:ext cx="719280" cy="0"/>
          </a:xfrm>
          <a:prstGeom prst="line">
            <a:avLst/>
          </a:prstGeom>
          <a:ln w="7632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21"/>
          <p:cNvSpPr/>
          <p:nvPr/>
        </p:nvSpPr>
        <p:spPr>
          <a:xfrm>
            <a:off x="2771280" y="6040440"/>
            <a:ext cx="1608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R posi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E. col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22"/>
          <p:cNvSpPr/>
          <p:nvPr/>
        </p:nvSpPr>
        <p:spPr>
          <a:xfrm>
            <a:off x="4786200" y="287352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23"/>
          <p:cNvSpPr/>
          <p:nvPr/>
        </p:nvSpPr>
        <p:spPr>
          <a:xfrm>
            <a:off x="7088400" y="2873520"/>
            <a:ext cx="19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Neutral pathw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24"/>
          <p:cNvSpPr/>
          <p:nvPr/>
        </p:nvSpPr>
        <p:spPr>
          <a:xfrm>
            <a:off x="7956720" y="3214800"/>
            <a:ext cx="0" cy="7189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25"/>
          <p:cNvSpPr/>
          <p:nvPr/>
        </p:nvSpPr>
        <p:spPr>
          <a:xfrm>
            <a:off x="6390000" y="3952800"/>
            <a:ext cx="255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cety methyl carbin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(ACETOI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27"/>
          <p:cNvSpPr/>
          <p:nvPr/>
        </p:nvSpPr>
        <p:spPr>
          <a:xfrm>
            <a:off x="7956720" y="4653000"/>
            <a:ext cx="0" cy="12970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28"/>
          <p:cNvSpPr/>
          <p:nvPr/>
        </p:nvSpPr>
        <p:spPr>
          <a:xfrm>
            <a:off x="6589080" y="5013360"/>
            <a:ext cx="122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Barrit’s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Barrit;s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29"/>
          <p:cNvSpPr/>
          <p:nvPr/>
        </p:nvSpPr>
        <p:spPr>
          <a:xfrm>
            <a:off x="7222680" y="615780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ink col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Line 31"/>
          <p:cNvSpPr/>
          <p:nvPr/>
        </p:nvSpPr>
        <p:spPr>
          <a:xfrm flipH="1">
            <a:off x="6227640" y="6308640"/>
            <a:ext cx="936720" cy="0"/>
          </a:xfrm>
          <a:prstGeom prst="line">
            <a:avLst/>
          </a:prstGeom>
          <a:ln w="7632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32"/>
          <p:cNvSpPr/>
          <p:nvPr/>
        </p:nvSpPr>
        <p:spPr>
          <a:xfrm>
            <a:off x="4860360" y="5956200"/>
            <a:ext cx="141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VP posit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Klebsiel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33"/>
          <p:cNvSpPr/>
          <p:nvPr/>
        </p:nvSpPr>
        <p:spPr>
          <a:xfrm>
            <a:off x="7575480" y="4456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Oval 34"/>
          <p:cNvSpPr/>
          <p:nvPr/>
        </p:nvSpPr>
        <p:spPr>
          <a:xfrm rot="19773000">
            <a:off x="5881680" y="934560"/>
            <a:ext cx="2513160" cy="59025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MV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iC test: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P te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29152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2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oculate the tested organism into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One tub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</a:t>
            </a:r>
            <a:r>
              <a:rPr b="0" lang="en-US" sz="2000" spc="-1" strike="noStrike" u="sng">
                <a:solidFill>
                  <a:srgbClr val="86d1ec"/>
                </a:solidFill>
                <a:uFillTx/>
                <a:latin typeface="Arial"/>
                <a:hlinkClick r:id="rId1"/>
              </a:rPr>
              <a:t>MRV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ro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2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ubate the tubes at 37°C for 24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2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 INCUBATION:  Pour 1/3 of the suspension into a clean nonsterile tube: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2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un the MR test in the tube with 2/3, and the VP test in the open tube with 1/3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52480" indent="-38088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methyl red:  Add 6-8 drops of methyl red reagen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52480" indent="-38088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Voges-Proskauer:  Add 12 drops of Barritt's A 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naphthol), mix, 4 drops of Barritt's B (40% KOH), mix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52480" indent="-38088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t sit,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undisturb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for at least 1ho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 algn="r">
              <a:lnSpc>
                <a:spcPct val="2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276480" y="549360"/>
            <a:ext cx="199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eth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MV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iC test: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R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P te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5" descr="mr"/>
          <p:cNvPicPr/>
          <p:nvPr/>
        </p:nvPicPr>
        <p:blipFill>
          <a:blip r:embed="rId1"/>
          <a:srcRect l="0" t="9449" r="0" b="0"/>
          <a:stretch/>
        </p:blipFill>
        <p:spPr>
          <a:xfrm>
            <a:off x="826920" y="1268280"/>
            <a:ext cx="3621240" cy="349596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6"/>
          <p:cNvSpPr/>
          <p:nvPr/>
        </p:nvSpPr>
        <p:spPr>
          <a:xfrm>
            <a:off x="564840" y="765000"/>
            <a:ext cx="178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7"/>
          <p:cNvSpPr/>
          <p:nvPr/>
        </p:nvSpPr>
        <p:spPr>
          <a:xfrm>
            <a:off x="1690560" y="4903920"/>
            <a:ext cx="206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hyl Red t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9" descr="vp"/>
          <p:cNvPicPr/>
          <p:nvPr/>
        </p:nvPicPr>
        <p:blipFill>
          <a:blip r:embed="rId2"/>
          <a:stretch/>
        </p:blipFill>
        <p:spPr>
          <a:xfrm>
            <a:off x="5003640" y="1341360"/>
            <a:ext cx="3333960" cy="333396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10"/>
          <p:cNvSpPr/>
          <p:nvPr/>
        </p:nvSpPr>
        <p:spPr>
          <a:xfrm>
            <a:off x="5533920" y="4869000"/>
            <a:ext cx="279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oges-Proskauer t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1"/>
          <p:cNvSpPr/>
          <p:nvPr/>
        </p:nvSpPr>
        <p:spPr>
          <a:xfrm>
            <a:off x="-43920" y="5373720"/>
            <a:ext cx="352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Red: Positive MR (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E. coli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12"/>
          <p:cNvSpPr/>
          <p:nvPr/>
        </p:nvSpPr>
        <p:spPr>
          <a:xfrm>
            <a:off x="-40680" y="5902200"/>
            <a:ext cx="507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Yellow or orange: Negative MR (Klebsiella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13"/>
          <p:cNvSpPr/>
          <p:nvPr/>
        </p:nvSpPr>
        <p:spPr>
          <a:xfrm>
            <a:off x="4924800" y="5300640"/>
            <a:ext cx="396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ink: Positive VP (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Klebsiella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14"/>
          <p:cNvSpPr/>
          <p:nvPr/>
        </p:nvSpPr>
        <p:spPr>
          <a:xfrm>
            <a:off x="4996440" y="5877000"/>
            <a:ext cx="400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No pink: Negative VP (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E. coli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4"/>
          <p:cNvSpPr/>
          <p:nvPr/>
        </p:nvSpPr>
        <p:spPr>
          <a:xfrm>
            <a:off x="826920" y="189000"/>
            <a:ext cx="6553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itrate Utilization T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324360" y="401760"/>
            <a:ext cx="203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rincipl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320040" y="1376280"/>
            <a:ext cx="106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Citr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7617960" y="1341360"/>
            <a:ext cx="1250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Na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CO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7065000" y="3032280"/>
            <a:ext cx="176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Alkaline,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↑p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13"/>
          <p:cNvSpPr/>
          <p:nvPr/>
        </p:nvSpPr>
        <p:spPr>
          <a:xfrm>
            <a:off x="2956320" y="5357880"/>
            <a:ext cx="21895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Blue colo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1" name="Group 14"/>
          <p:cNvGrpSpPr/>
          <p:nvPr/>
        </p:nvGrpSpPr>
        <p:grpSpPr>
          <a:xfrm>
            <a:off x="5075280" y="2081160"/>
            <a:ext cx="576360" cy="1419120"/>
            <a:chOff x="5075280" y="2081160"/>
            <a:chExt cx="576360" cy="1419120"/>
          </a:xfrm>
        </p:grpSpPr>
        <p:sp>
          <p:nvSpPr>
            <p:cNvPr id="232" name="AutoShape 15"/>
            <p:cNvSpPr/>
            <p:nvPr/>
          </p:nvSpPr>
          <p:spPr>
            <a:xfrm flipH="1">
              <a:off x="5147640" y="2544840"/>
              <a:ext cx="430200" cy="863640"/>
            </a:xfrm>
            <a:prstGeom prst="rtTriangle">
              <a:avLst/>
            </a:prstGeom>
            <a:solidFill>
              <a:srgbClr val="006600"/>
            </a:soli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33" name="Picture 16" descr="SPECIMEN"/>
            <p:cNvPicPr/>
            <p:nvPr/>
          </p:nvPicPr>
          <p:blipFill>
            <a:blip r:embed="rId1"/>
            <a:stretch/>
          </p:blipFill>
          <p:spPr>
            <a:xfrm>
              <a:off x="5075280" y="2081160"/>
              <a:ext cx="576360" cy="1419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4" name="Group 17"/>
          <p:cNvGrpSpPr/>
          <p:nvPr/>
        </p:nvGrpSpPr>
        <p:grpSpPr>
          <a:xfrm>
            <a:off x="2340000" y="4660920"/>
            <a:ext cx="576360" cy="1289160"/>
            <a:chOff x="2340000" y="4660920"/>
            <a:chExt cx="576360" cy="1289160"/>
          </a:xfrm>
        </p:grpSpPr>
        <p:sp>
          <p:nvSpPr>
            <p:cNvPr id="235" name="AutoShape 18"/>
            <p:cNvSpPr/>
            <p:nvPr/>
          </p:nvSpPr>
          <p:spPr>
            <a:xfrm flipH="1">
              <a:off x="2412360" y="5013360"/>
              <a:ext cx="430200" cy="863640"/>
            </a:xfrm>
            <a:prstGeom prst="rtTriangle">
              <a:avLst/>
            </a:prstGeom>
            <a:solidFill>
              <a:srgbClr val="000080"/>
            </a:soli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36" name="Picture 19" descr="SPECIMEN"/>
            <p:cNvPicPr/>
            <p:nvPr/>
          </p:nvPicPr>
          <p:blipFill>
            <a:blip r:embed="rId2"/>
            <a:stretch/>
          </p:blipFill>
          <p:spPr>
            <a:xfrm>
              <a:off x="2340000" y="4660920"/>
              <a:ext cx="576360" cy="128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Text Box 24"/>
          <p:cNvSpPr/>
          <p:nvPr/>
        </p:nvSpPr>
        <p:spPr>
          <a:xfrm>
            <a:off x="5082480" y="4916520"/>
            <a:ext cx="287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Bromothymol bl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27"/>
          <p:cNvSpPr/>
          <p:nvPr/>
        </p:nvSpPr>
        <p:spPr>
          <a:xfrm>
            <a:off x="3803760" y="3392640"/>
            <a:ext cx="321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Simmone’s Citrate med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45"/>
          <p:cNvSpPr/>
          <p:nvPr/>
        </p:nvSpPr>
        <p:spPr>
          <a:xfrm>
            <a:off x="396720" y="6014880"/>
            <a:ext cx="57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ositive test: Klebsiella, Enterobacter, Citrobac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49"/>
          <p:cNvSpPr/>
          <p:nvPr/>
        </p:nvSpPr>
        <p:spPr>
          <a:xfrm>
            <a:off x="4569120" y="1413000"/>
            <a:ext cx="213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O2 + Na + H2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51"/>
          <p:cNvSpPr/>
          <p:nvPr/>
        </p:nvSpPr>
        <p:spPr>
          <a:xfrm>
            <a:off x="2411640" y="1413000"/>
            <a:ext cx="125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yruv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Line 54"/>
          <p:cNvSpPr/>
          <p:nvPr/>
        </p:nvSpPr>
        <p:spPr>
          <a:xfrm>
            <a:off x="3708360" y="1628640"/>
            <a:ext cx="93672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Line 55"/>
          <p:cNvSpPr/>
          <p:nvPr/>
        </p:nvSpPr>
        <p:spPr>
          <a:xfrm>
            <a:off x="6659640" y="1628640"/>
            <a:ext cx="93672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Line 56"/>
          <p:cNvSpPr/>
          <p:nvPr/>
        </p:nvSpPr>
        <p:spPr>
          <a:xfrm>
            <a:off x="8028000" y="1844640"/>
            <a:ext cx="0" cy="1008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5" name="AutoShape 57"/>
          <p:cNvCxnSpPr>
            <a:stCxn id="229" idx="2"/>
          </p:cNvCxnSpPr>
          <p:nvPr/>
        </p:nvCxnSpPr>
        <p:spPr>
          <a:xfrm rot="5400000">
            <a:off x="5560200" y="3276360"/>
            <a:ext cx="2232720" cy="2537640"/>
          </a:xfrm>
          <a:prstGeom prst="bentConnector2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246" name="Text Box 58"/>
          <p:cNvSpPr/>
          <p:nvPr/>
        </p:nvSpPr>
        <p:spPr>
          <a:xfrm>
            <a:off x="707040" y="5342040"/>
            <a:ext cx="168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Positive t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59"/>
          <p:cNvSpPr/>
          <p:nvPr/>
        </p:nvSpPr>
        <p:spPr>
          <a:xfrm>
            <a:off x="427680" y="6446880"/>
            <a:ext cx="259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Negative test:</a:t>
            </a: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 E. col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61"/>
          <p:cNvSpPr/>
          <p:nvPr/>
        </p:nvSpPr>
        <p:spPr>
          <a:xfrm>
            <a:off x="2982600" y="3763800"/>
            <a:ext cx="476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Contains Citrate as a sole of C sou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Line 62"/>
          <p:cNvSpPr/>
          <p:nvPr/>
        </p:nvSpPr>
        <p:spPr>
          <a:xfrm>
            <a:off x="1476360" y="1628640"/>
            <a:ext cx="93672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0" name="AutoShape 63"/>
          <p:cNvCxnSpPr/>
          <p:nvPr/>
        </p:nvCxnSpPr>
        <p:spPr>
          <a:xfrm rot="10800000">
            <a:off x="850320" y="1772640"/>
            <a:ext cx="2642040" cy="1881720"/>
          </a:xfrm>
          <a:prstGeom prst="bentConnector2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6T13:09:48Z</dcterms:created>
  <dc:creator>User</dc:creator>
  <dc:description/>
  <dc:language>en-US</dc:language>
  <cp:lastModifiedBy>ahmed i-tech</cp:lastModifiedBy>
  <dcterms:modified xsi:type="dcterms:W3CDTF">2016-11-11T06:24:44Z</dcterms:modified>
  <cp:revision>33</cp:revision>
  <dc:subject/>
  <dc:title>Enterobacteriacea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